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26.png" ContentType="image/png"/>
  <Override PartName="/ppt/media/image3.png" ContentType="image/png"/>
  <Override PartName="/ppt/media/image35.wmf" ContentType="image/x-wmf"/>
  <Override PartName="/ppt/media/image37.wmf" ContentType="image/x-wmf"/>
  <Override PartName="/ppt/media/image38.png" ContentType="image/png"/>
  <Override PartName="/ppt/media/image41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43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12.png" ContentType="image/png"/>
  <Override PartName="/ppt/media/image33.wmf" ContentType="image/x-wmf"/>
  <Override PartName="/ppt/media/image8.wmf" ContentType="image/x-wmf"/>
  <Override PartName="/ppt/media/image46.png" ContentType="image/png"/>
  <Override PartName="/ppt/media/image11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40.wmf" ContentType="image/x-wmf"/>
  <Override PartName="/ppt/media/image7.png" ContentType="image/png"/>
  <Override PartName="/ppt/media/image15.wmf" ContentType="image/x-wmf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81FF-76BF-47B6-A2D2-2392FFDD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AD7-8E42-4923-B7B1-86EBCFCE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636-E993-40B7-ACBC-62C895E07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193-C9BE-43E1-8837-B9D6A1D9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BEF7-D09A-4832-859F-9057C1CF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47BD-94B0-4B44-BE3B-FAC5B869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90C-94DA-4D7A-B796-D4CD92B8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F8B4-3E22-42B4-90BE-6440B772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7189-3140-4168-B350-4BB511E4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C179-9B0B-4F6A-94ED-75C66D10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C7BA-B771-4228-9284-2F04891E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288-16BE-411B-85C6-55EA2581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5DC33-87BD-4C96-92E8-8DFAB2DFF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image" Target="../media/image4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23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24.wmf"/><Relationship Id="rId27" Type="http://schemas.openxmlformats.org/officeDocument/2006/relationships/image" Target="../media/image4.pn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image" Target="../media/image4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0.wm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8.png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1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2.wmf"/><Relationship Id="rId25" Type="http://schemas.openxmlformats.org/officeDocument/2006/relationships/image" Target="../media/image4.png"/><Relationship Id="rId2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20" y="380880"/>
          <a:ext cx="5146560" cy="246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80880"/>
                    <a:ext cx="5146560" cy="24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4724280" y="623880"/>
            <a:ext cx="3213360" cy="2423880"/>
            <a:chOff x="4724280" y="623880"/>
            <a:chExt cx="3213360" cy="2423880"/>
          </a:xfrm>
        </p:grpSpPr>
        <p:graphicFrame>
          <p:nvGraphicFramePr>
            <p:cNvPr id="44" name=""/>
            <p:cNvGraphicFramePr/>
            <p:nvPr/>
          </p:nvGraphicFramePr>
          <p:xfrm>
            <a:off x="4724280" y="623880"/>
            <a:ext cx="2770200" cy="2423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623880"/>
                      <a:ext cx="2770200" cy="242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" name=""/>
            <p:cNvSpPr/>
            <p:nvPr/>
          </p:nvSpPr>
          <p:spPr>
            <a:xfrm>
              <a:off x="5913000" y="1496880"/>
              <a:ext cx="20246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F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LEMENT+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18080" y="76320"/>
            <a:ext cx="298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00400" y="0"/>
            <a:ext cx="59436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IND THE THEVENIN EQUIVALENT FOR THE UNKNOWN ELEMENT USING A RESISTOR AND A VOLTME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52280" y="2590920"/>
            <a:ext cx="5529240" cy="2490840"/>
            <a:chOff x="152280" y="2590920"/>
            <a:chExt cx="5529240" cy="2490840"/>
          </a:xfrm>
        </p:grpSpPr>
        <p:graphicFrame>
          <p:nvGraphicFramePr>
            <p:cNvPr id="50" name=""/>
            <p:cNvGraphicFramePr/>
            <p:nvPr/>
          </p:nvGraphicFramePr>
          <p:xfrm>
            <a:off x="152280" y="2590920"/>
            <a:ext cx="4816440" cy="2490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2280" y="2590920"/>
                      <a:ext cx="4816440" cy="249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" name=""/>
            <p:cNvSpPr/>
            <p:nvPr/>
          </p:nvSpPr>
          <p:spPr>
            <a:xfrm>
              <a:off x="3554640" y="4143240"/>
              <a:ext cx="212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MEASURED A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EST RESIS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969320" y="1133640"/>
                <a:ext cx="111744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t xml:space="preserve">V</m:t>
                        </m:r>
                      </m:e>
                      <m:e>
                        <m:r>
                          <m:t xml:space="preserve">−</m:t>
                        </m:r>
                      </m:e>
                      <m:e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easur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n open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ircui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6553080" y="2133720"/>
                <a:ext cx="1092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" name=""/>
          <p:cNvGrpSpPr/>
          <p:nvPr/>
        </p:nvGrpSpPr>
        <p:grpSpPr>
          <a:xfrm>
            <a:off x="3276720" y="3200400"/>
            <a:ext cx="888840" cy="1219320"/>
            <a:chOff x="3276720" y="3200400"/>
            <a:chExt cx="888840" cy="1219320"/>
          </a:xfrm>
        </p:grpSpPr>
        <p:sp>
          <p:nvSpPr>
            <p:cNvPr id="56" name=""/>
            <p:cNvSpPr/>
            <p:nvPr/>
          </p:nvSpPr>
          <p:spPr>
            <a:xfrm>
              <a:off x="3276720" y="3200400"/>
              <a:ext cx="0" cy="12193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" name=""/>
                <p:cNvSpPr txBox="1"/>
                <p:nvPr/>
              </p:nvSpPr>
              <p:spPr>
                <a:xfrm>
                  <a:off x="3505320" y="3200400"/>
                  <a:ext cx="66024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371600" y="3200400"/>
                <a:ext cx="81108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28600" y="4267080"/>
                <a:ext cx="493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19320" y="4191120"/>
                <a:ext cx="1079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638680" y="3429000"/>
          <a:ext cx="2478240" cy="2325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38680" y="3429000"/>
                    <a:ext cx="2478240" cy="2325600"/>
                  </a:xfrm>
                  <a:prstGeom prst="rect">
                    <a:avLst/>
                  </a:prstGeom>
                  <a:ln w="25560">
                    <a:solidFill>
                      <a:srgbClr val="00cc99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040" y="117360"/>
            <a:ext cx="21009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3800" y="117360"/>
            <a:ext cx="5118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mplement the fine/coarse adjus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3200" y="457200"/>
          <a:ext cx="419112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57200"/>
                    <a:ext cx="419112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2691720" y="1523880"/>
            <a:ext cx="635256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terms suggests 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ess than one suggest voltage divi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1946160"/>
            <a:ext cx="4029120" cy="2478240"/>
            <a:chOff x="0" y="1946160"/>
            <a:chExt cx="4029120" cy="2478240"/>
          </a:xfrm>
        </p:grpSpPr>
        <p:graphicFrame>
          <p:nvGraphicFramePr>
            <p:cNvPr id="72" name=""/>
            <p:cNvGraphicFramePr/>
            <p:nvPr/>
          </p:nvGraphicFramePr>
          <p:xfrm>
            <a:off x="0" y="2252520"/>
            <a:ext cx="4029120" cy="2171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252520"/>
                      <a:ext cx="4029120" cy="217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4" name=""/>
            <p:cNvSpPr/>
            <p:nvPr/>
          </p:nvSpPr>
          <p:spPr>
            <a:xfrm>
              <a:off x="222120" y="194616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ossible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276720" y="484200"/>
            <a:ext cx="2895480" cy="4443480"/>
            <a:chOff x="3276720" y="484200"/>
            <a:chExt cx="2895480" cy="4443480"/>
          </a:xfrm>
        </p:grpSpPr>
        <p:graphicFrame>
          <p:nvGraphicFramePr>
            <p:cNvPr id="76" name=""/>
            <p:cNvGraphicFramePr/>
            <p:nvPr/>
          </p:nvGraphicFramePr>
          <p:xfrm>
            <a:off x="3276720" y="4157640"/>
            <a:ext cx="2895480" cy="770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4157640"/>
                      <a:ext cx="2895480" cy="77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" name=""/>
            <p:cNvSpPr/>
            <p:nvPr/>
          </p:nvSpPr>
          <p:spPr>
            <a:xfrm>
              <a:off x="3552840" y="484200"/>
              <a:ext cx="1755360" cy="1170000"/>
            </a:xfrm>
            <a:custGeom>
              <a:avLst/>
              <a:gdLst/>
              <a:ahLst/>
              <a:rect l="l" t="t" r="r" b="b"/>
              <a:pathLst>
                <a:path w="1107" h="739">
                  <a:moveTo>
                    <a:pt x="1075" y="567"/>
                  </a:moveTo>
                  <a:cubicBezTo>
                    <a:pt x="1071" y="474"/>
                    <a:pt x="1107" y="366"/>
                    <a:pt x="1056" y="288"/>
                  </a:cubicBezTo>
                  <a:cubicBezTo>
                    <a:pt x="1028" y="246"/>
                    <a:pt x="973" y="180"/>
                    <a:pt x="931" y="154"/>
                  </a:cubicBezTo>
                  <a:cubicBezTo>
                    <a:pt x="889" y="128"/>
                    <a:pt x="841" y="112"/>
                    <a:pt x="806" y="77"/>
                  </a:cubicBezTo>
                  <a:cubicBezTo>
                    <a:pt x="796" y="67"/>
                    <a:pt x="789" y="55"/>
                    <a:pt x="777" y="48"/>
                  </a:cubicBezTo>
                  <a:cubicBezTo>
                    <a:pt x="706" y="9"/>
                    <a:pt x="602" y="6"/>
                    <a:pt x="528" y="0"/>
                  </a:cubicBezTo>
                  <a:cubicBezTo>
                    <a:pt x="396" y="11"/>
                    <a:pt x="291" y="23"/>
                    <a:pt x="153" y="29"/>
                  </a:cubicBezTo>
                  <a:cubicBezTo>
                    <a:pt x="113" y="43"/>
                    <a:pt x="92" y="51"/>
                    <a:pt x="57" y="77"/>
                  </a:cubicBezTo>
                  <a:cubicBezTo>
                    <a:pt x="16" y="139"/>
                    <a:pt x="12" y="157"/>
                    <a:pt x="0" y="231"/>
                  </a:cubicBezTo>
                  <a:cubicBezTo>
                    <a:pt x="6" y="278"/>
                    <a:pt x="12" y="339"/>
                    <a:pt x="29" y="384"/>
                  </a:cubicBezTo>
                  <a:cubicBezTo>
                    <a:pt x="52" y="446"/>
                    <a:pt x="149" y="574"/>
                    <a:pt x="211" y="595"/>
                  </a:cubicBezTo>
                  <a:cubicBezTo>
                    <a:pt x="230" y="602"/>
                    <a:pt x="252" y="604"/>
                    <a:pt x="269" y="615"/>
                  </a:cubicBezTo>
                  <a:cubicBezTo>
                    <a:pt x="313" y="645"/>
                    <a:pt x="372" y="655"/>
                    <a:pt x="422" y="672"/>
                  </a:cubicBezTo>
                  <a:cubicBezTo>
                    <a:pt x="529" y="708"/>
                    <a:pt x="636" y="727"/>
                    <a:pt x="749" y="739"/>
                  </a:cubicBezTo>
                  <a:cubicBezTo>
                    <a:pt x="821" y="732"/>
                    <a:pt x="854" y="734"/>
                    <a:pt x="921" y="711"/>
                  </a:cubicBezTo>
                  <a:cubicBezTo>
                    <a:pt x="940" y="704"/>
                    <a:pt x="962" y="702"/>
                    <a:pt x="979" y="691"/>
                  </a:cubicBezTo>
                  <a:cubicBezTo>
                    <a:pt x="998" y="678"/>
                    <a:pt x="1037" y="653"/>
                    <a:pt x="1037" y="653"/>
                  </a:cubicBezTo>
                  <a:cubicBezTo>
                    <a:pt x="1056" y="625"/>
                    <a:pt x="1061" y="599"/>
                    <a:pt x="1085" y="576"/>
                  </a:cubicBezTo>
                  <a:cubicBezTo>
                    <a:pt x="1097" y="538"/>
                    <a:pt x="1101" y="540"/>
                    <a:pt x="1075" y="567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430960" y="412920"/>
            <a:ext cx="3713040" cy="4457520"/>
            <a:chOff x="5430960" y="412920"/>
            <a:chExt cx="3713040" cy="4457520"/>
          </a:xfrm>
        </p:grpSpPr>
        <p:graphicFrame>
          <p:nvGraphicFramePr>
            <p:cNvPr id="80" name=""/>
            <p:cNvGraphicFramePr/>
            <p:nvPr/>
          </p:nvGraphicFramePr>
          <p:xfrm>
            <a:off x="6248520" y="4138560"/>
            <a:ext cx="2895480" cy="731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248520" y="413856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" name=""/>
            <p:cNvSpPr/>
            <p:nvPr/>
          </p:nvSpPr>
          <p:spPr>
            <a:xfrm>
              <a:off x="5430960" y="412920"/>
              <a:ext cx="1569960" cy="1081080"/>
            </a:xfrm>
            <a:custGeom>
              <a:avLst/>
              <a:gdLst/>
              <a:ahLst/>
              <a:rect l="l" t="t" r="r" b="b"/>
              <a:pathLst>
                <a:path w="989" h="681">
                  <a:moveTo>
                    <a:pt x="25" y="153"/>
                  </a:moveTo>
                  <a:cubicBezTo>
                    <a:pt x="5" y="237"/>
                    <a:pt x="0" y="316"/>
                    <a:pt x="16" y="402"/>
                  </a:cubicBezTo>
                  <a:cubicBezTo>
                    <a:pt x="18" y="413"/>
                    <a:pt x="29" y="421"/>
                    <a:pt x="35" y="431"/>
                  </a:cubicBezTo>
                  <a:cubicBezTo>
                    <a:pt x="67" y="489"/>
                    <a:pt x="94" y="528"/>
                    <a:pt x="141" y="575"/>
                  </a:cubicBezTo>
                  <a:cubicBezTo>
                    <a:pt x="186" y="620"/>
                    <a:pt x="265" y="642"/>
                    <a:pt x="323" y="662"/>
                  </a:cubicBezTo>
                  <a:cubicBezTo>
                    <a:pt x="348" y="671"/>
                    <a:pt x="400" y="681"/>
                    <a:pt x="400" y="681"/>
                  </a:cubicBezTo>
                  <a:cubicBezTo>
                    <a:pt x="483" y="678"/>
                    <a:pt x="566" y="676"/>
                    <a:pt x="649" y="671"/>
                  </a:cubicBezTo>
                  <a:cubicBezTo>
                    <a:pt x="705" y="667"/>
                    <a:pt x="764" y="640"/>
                    <a:pt x="822" y="633"/>
                  </a:cubicBezTo>
                  <a:cubicBezTo>
                    <a:pt x="900" y="607"/>
                    <a:pt x="867" y="628"/>
                    <a:pt x="928" y="566"/>
                  </a:cubicBezTo>
                  <a:cubicBezTo>
                    <a:pt x="934" y="559"/>
                    <a:pt x="947" y="546"/>
                    <a:pt x="947" y="546"/>
                  </a:cubicBezTo>
                  <a:cubicBezTo>
                    <a:pt x="967" y="469"/>
                    <a:pt x="989" y="381"/>
                    <a:pt x="947" y="306"/>
                  </a:cubicBezTo>
                  <a:cubicBezTo>
                    <a:pt x="946" y="303"/>
                    <a:pt x="890" y="219"/>
                    <a:pt x="880" y="210"/>
                  </a:cubicBezTo>
                  <a:cubicBezTo>
                    <a:pt x="863" y="195"/>
                    <a:pt x="822" y="172"/>
                    <a:pt x="822" y="172"/>
                  </a:cubicBezTo>
                  <a:cubicBezTo>
                    <a:pt x="795" y="130"/>
                    <a:pt x="744" y="111"/>
                    <a:pt x="697" y="95"/>
                  </a:cubicBezTo>
                  <a:cubicBezTo>
                    <a:pt x="581" y="56"/>
                    <a:pt x="487" y="45"/>
                    <a:pt x="361" y="38"/>
                  </a:cubicBezTo>
                  <a:cubicBezTo>
                    <a:pt x="293" y="14"/>
                    <a:pt x="248" y="15"/>
                    <a:pt x="169" y="9"/>
                  </a:cubicBezTo>
                  <a:cubicBezTo>
                    <a:pt x="121" y="12"/>
                    <a:pt x="69" y="0"/>
                    <a:pt x="25" y="18"/>
                  </a:cubicBezTo>
                  <a:cubicBezTo>
                    <a:pt x="6" y="26"/>
                    <a:pt x="6" y="76"/>
                    <a:pt x="6" y="76"/>
                  </a:cubicBezTo>
                  <a:cubicBezTo>
                    <a:pt x="17" y="147"/>
                    <a:pt x="1" y="126"/>
                    <a:pt x="25" y="153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661640" y="4921200"/>
            <a:ext cx="36097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 EQS AND THREE UNKNOW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280" y="5029200"/>
            <a:ext cx="4021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FINITE POSSIBLE SOLU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OTHER CRITERIA PL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ENGINEERING JUD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95280" y="5943600"/>
          <a:ext cx="3429000" cy="662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295280" y="5943600"/>
                    <a:ext cx="342900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" descr=""/>
          <p:cNvPicPr/>
          <p:nvPr/>
        </p:nvPicPr>
        <p:blipFill>
          <a:blip r:embed="rId1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038480" y="2212920"/>
            <a:ext cx="5029200" cy="1809720"/>
            <a:chOff x="4038480" y="2212920"/>
            <a:chExt cx="5029200" cy="1809720"/>
          </a:xfrm>
        </p:grpSpPr>
        <p:graphicFrame>
          <p:nvGraphicFramePr>
            <p:cNvPr id="91" name=""/>
            <p:cNvGraphicFramePr/>
            <p:nvPr/>
          </p:nvGraphicFramePr>
          <p:xfrm>
            <a:off x="4038480" y="2212920"/>
            <a:ext cx="5029200" cy="180972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038480" y="2212920"/>
                      <a:ext cx="5029200" cy="180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" name=""/>
            <p:cNvSpPr/>
            <p:nvPr/>
          </p:nvSpPr>
          <p:spPr>
            <a:xfrm>
              <a:off x="5861520" y="2301840"/>
              <a:ext cx="156744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Circuits f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Console"/>
                </a:rPr>
                <a:t>superpos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33520" y="1219320"/>
          <a:ext cx="3504960" cy="19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3504960" cy="19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35400" y="41400"/>
            <a:ext cx="3472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N ATTENUATOR P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79720" y="493560"/>
            <a:ext cx="5112000" cy="1143000"/>
            <a:chOff x="3879720" y="493560"/>
            <a:chExt cx="5112000" cy="1143000"/>
          </a:xfrm>
        </p:grpSpPr>
        <p:sp>
          <p:nvSpPr>
            <p:cNvPr id="99" name=""/>
            <p:cNvSpPr/>
            <p:nvPr/>
          </p:nvSpPr>
          <p:spPr>
            <a:xfrm>
              <a:off x="3879720" y="49860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0" name=""/>
            <p:cNvGraphicFramePr/>
            <p:nvPr/>
          </p:nvGraphicFramePr>
          <p:xfrm>
            <a:off x="6324480" y="493560"/>
            <a:ext cx="2667240" cy="420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324480" y="493560"/>
                      <a:ext cx="2667240" cy="42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" name=""/>
            <p:cNvGraphicFramePr/>
            <p:nvPr/>
          </p:nvGraphicFramePr>
          <p:xfrm>
            <a:off x="7238880" y="914400"/>
            <a:ext cx="1067040" cy="722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38880" y="914400"/>
                      <a:ext cx="1067040" cy="72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3987720" y="1641600"/>
            <a:ext cx="3860640" cy="898560"/>
            <a:chOff x="3987720" y="1641600"/>
            <a:chExt cx="3860640" cy="898560"/>
          </a:xfrm>
        </p:grpSpPr>
        <p:graphicFrame>
          <p:nvGraphicFramePr>
            <p:cNvPr id="105" name=""/>
            <p:cNvGraphicFramePr/>
            <p:nvPr/>
          </p:nvGraphicFramePr>
          <p:xfrm>
            <a:off x="4038480" y="1641600"/>
            <a:ext cx="3758760" cy="406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38480" y="1641600"/>
                      <a:ext cx="375876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" name=""/>
            <p:cNvGraphicFramePr/>
            <p:nvPr/>
          </p:nvGraphicFramePr>
          <p:xfrm>
            <a:off x="3987720" y="2133720"/>
            <a:ext cx="3860640" cy="4064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987720" y="2133720"/>
                      <a:ext cx="3860640" cy="406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09" name=""/>
          <p:cNvGraphicFramePr/>
          <p:nvPr/>
        </p:nvGraphicFramePr>
        <p:xfrm>
          <a:off x="4267080" y="2666880"/>
          <a:ext cx="2971800" cy="351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267080" y="2666880"/>
                    <a:ext cx="29718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"/>
          <p:cNvGrpSpPr/>
          <p:nvPr/>
        </p:nvGrpSpPr>
        <p:grpSpPr>
          <a:xfrm>
            <a:off x="152280" y="944640"/>
            <a:ext cx="3094200" cy="3195720"/>
            <a:chOff x="152280" y="944640"/>
            <a:chExt cx="3094200" cy="3195720"/>
          </a:xfrm>
        </p:grpSpPr>
        <p:sp>
          <p:nvSpPr>
            <p:cNvPr id="112" name=""/>
            <p:cNvSpPr/>
            <p:nvPr/>
          </p:nvSpPr>
          <p:spPr>
            <a:xfrm>
              <a:off x="152280" y="944640"/>
              <a:ext cx="3094200" cy="2576520"/>
            </a:xfrm>
            <a:custGeom>
              <a:avLst/>
              <a:gdLst/>
              <a:ahLst/>
              <a:rect l="l" t="t" r="r" b="b"/>
              <a:pathLst>
                <a:path w="1949" h="1623">
                  <a:moveTo>
                    <a:pt x="1507" y="1402"/>
                  </a:moveTo>
                  <a:cubicBezTo>
                    <a:pt x="1553" y="1340"/>
                    <a:pt x="1615" y="1293"/>
                    <a:pt x="1670" y="1239"/>
                  </a:cubicBezTo>
                  <a:cubicBezTo>
                    <a:pt x="1757" y="1153"/>
                    <a:pt x="1835" y="1044"/>
                    <a:pt x="1882" y="931"/>
                  </a:cubicBezTo>
                  <a:cubicBezTo>
                    <a:pt x="1899" y="839"/>
                    <a:pt x="1925" y="744"/>
                    <a:pt x="1949" y="653"/>
                  </a:cubicBezTo>
                  <a:cubicBezTo>
                    <a:pt x="1940" y="576"/>
                    <a:pt x="1942" y="470"/>
                    <a:pt x="1891" y="403"/>
                  </a:cubicBezTo>
                  <a:cubicBezTo>
                    <a:pt x="1854" y="355"/>
                    <a:pt x="1799" y="301"/>
                    <a:pt x="1757" y="259"/>
                  </a:cubicBezTo>
                  <a:cubicBezTo>
                    <a:pt x="1722" y="224"/>
                    <a:pt x="1699" y="198"/>
                    <a:pt x="1651" y="183"/>
                  </a:cubicBezTo>
                  <a:cubicBezTo>
                    <a:pt x="1586" y="115"/>
                    <a:pt x="1437" y="91"/>
                    <a:pt x="1344" y="77"/>
                  </a:cubicBezTo>
                  <a:cubicBezTo>
                    <a:pt x="1227" y="31"/>
                    <a:pt x="1114" y="13"/>
                    <a:pt x="989" y="0"/>
                  </a:cubicBezTo>
                  <a:cubicBezTo>
                    <a:pt x="785" y="9"/>
                    <a:pt x="616" y="19"/>
                    <a:pt x="422" y="67"/>
                  </a:cubicBezTo>
                  <a:cubicBezTo>
                    <a:pt x="378" y="78"/>
                    <a:pt x="399" y="82"/>
                    <a:pt x="346" y="106"/>
                  </a:cubicBezTo>
                  <a:cubicBezTo>
                    <a:pt x="284" y="134"/>
                    <a:pt x="274" y="134"/>
                    <a:pt x="221" y="173"/>
                  </a:cubicBezTo>
                  <a:cubicBezTo>
                    <a:pt x="197" y="191"/>
                    <a:pt x="144" y="221"/>
                    <a:pt x="144" y="221"/>
                  </a:cubicBezTo>
                  <a:cubicBezTo>
                    <a:pt x="108" y="275"/>
                    <a:pt x="87" y="332"/>
                    <a:pt x="67" y="394"/>
                  </a:cubicBezTo>
                  <a:cubicBezTo>
                    <a:pt x="33" y="608"/>
                    <a:pt x="91" y="281"/>
                    <a:pt x="29" y="509"/>
                  </a:cubicBezTo>
                  <a:cubicBezTo>
                    <a:pt x="9" y="582"/>
                    <a:pt x="9" y="674"/>
                    <a:pt x="0" y="749"/>
                  </a:cubicBezTo>
                  <a:cubicBezTo>
                    <a:pt x="10" y="919"/>
                    <a:pt x="28" y="1082"/>
                    <a:pt x="58" y="1248"/>
                  </a:cubicBezTo>
                  <a:cubicBezTo>
                    <a:pt x="62" y="1270"/>
                    <a:pt x="59" y="1294"/>
                    <a:pt x="67" y="1315"/>
                  </a:cubicBezTo>
                  <a:cubicBezTo>
                    <a:pt x="146" y="1516"/>
                    <a:pt x="426" y="1590"/>
                    <a:pt x="614" y="1623"/>
                  </a:cubicBezTo>
                  <a:cubicBezTo>
                    <a:pt x="707" y="1618"/>
                    <a:pt x="826" y="1614"/>
                    <a:pt x="922" y="1603"/>
                  </a:cubicBezTo>
                  <a:cubicBezTo>
                    <a:pt x="990" y="1595"/>
                    <a:pt x="1054" y="1573"/>
                    <a:pt x="1123" y="1565"/>
                  </a:cubicBezTo>
                  <a:cubicBezTo>
                    <a:pt x="1204" y="1537"/>
                    <a:pt x="1279" y="1491"/>
                    <a:pt x="1363" y="1469"/>
                  </a:cubicBezTo>
                  <a:cubicBezTo>
                    <a:pt x="1420" y="1432"/>
                    <a:pt x="1442" y="1424"/>
                    <a:pt x="1507" y="1402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"/>
            <p:cNvGraphicFramePr/>
            <p:nvPr/>
          </p:nvGraphicFramePr>
          <p:xfrm>
            <a:off x="609480" y="3508200"/>
            <a:ext cx="1981440" cy="6321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09480" y="3508200"/>
                      <a:ext cx="1981440" cy="632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5" name=""/>
          <p:cNvGraphicFramePr/>
          <p:nvPr/>
        </p:nvGraphicFramePr>
        <p:xfrm>
          <a:off x="235080" y="4172040"/>
          <a:ext cx="2960640" cy="690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5080" y="4172040"/>
                    <a:ext cx="296064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"/>
          <p:cNvGrpSpPr/>
          <p:nvPr/>
        </p:nvGrpSpPr>
        <p:grpSpPr>
          <a:xfrm>
            <a:off x="382680" y="3276720"/>
            <a:ext cx="5713200" cy="1660320"/>
            <a:chOff x="382680" y="3276720"/>
            <a:chExt cx="5713200" cy="1660320"/>
          </a:xfrm>
        </p:grpSpPr>
        <p:graphicFrame>
          <p:nvGraphicFramePr>
            <p:cNvPr id="118" name=""/>
            <p:cNvGraphicFramePr/>
            <p:nvPr/>
          </p:nvGraphicFramePr>
          <p:xfrm>
            <a:off x="3200400" y="3637080"/>
            <a:ext cx="2895480" cy="73188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9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200400" y="3637080"/>
                      <a:ext cx="2895480" cy="73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"/>
            <p:cNvSpPr/>
            <p:nvPr/>
          </p:nvSpPr>
          <p:spPr>
            <a:xfrm>
              <a:off x="2606760" y="4003560"/>
              <a:ext cx="873000" cy="933480"/>
            </a:xfrm>
            <a:custGeom>
              <a:avLst/>
              <a:gdLst/>
              <a:ahLst/>
              <a:rect l="l" t="t" r="r" b="b"/>
              <a:pathLst>
                <a:path w="550" h="588">
                  <a:moveTo>
                    <a:pt x="528" y="425"/>
                  </a:moveTo>
                  <a:cubicBezTo>
                    <a:pt x="550" y="355"/>
                    <a:pt x="541" y="399"/>
                    <a:pt x="518" y="262"/>
                  </a:cubicBezTo>
                  <a:cubicBezTo>
                    <a:pt x="506" y="189"/>
                    <a:pt x="512" y="139"/>
                    <a:pt x="460" y="89"/>
                  </a:cubicBezTo>
                  <a:cubicBezTo>
                    <a:pt x="445" y="40"/>
                    <a:pt x="423" y="18"/>
                    <a:pt x="374" y="3"/>
                  </a:cubicBezTo>
                  <a:cubicBezTo>
                    <a:pt x="248" y="14"/>
                    <a:pt x="301" y="0"/>
                    <a:pt x="211" y="32"/>
                  </a:cubicBezTo>
                  <a:cubicBezTo>
                    <a:pt x="169" y="47"/>
                    <a:pt x="139" y="84"/>
                    <a:pt x="96" y="99"/>
                  </a:cubicBezTo>
                  <a:cubicBezTo>
                    <a:pt x="73" y="121"/>
                    <a:pt x="38" y="176"/>
                    <a:pt x="38" y="176"/>
                  </a:cubicBezTo>
                  <a:cubicBezTo>
                    <a:pt x="28" y="215"/>
                    <a:pt x="9" y="242"/>
                    <a:pt x="0" y="281"/>
                  </a:cubicBezTo>
                  <a:cubicBezTo>
                    <a:pt x="3" y="332"/>
                    <a:pt x="4" y="384"/>
                    <a:pt x="9" y="435"/>
                  </a:cubicBezTo>
                  <a:cubicBezTo>
                    <a:pt x="20" y="544"/>
                    <a:pt x="140" y="571"/>
                    <a:pt x="230" y="588"/>
                  </a:cubicBezTo>
                  <a:cubicBezTo>
                    <a:pt x="259" y="585"/>
                    <a:pt x="288" y="586"/>
                    <a:pt x="316" y="579"/>
                  </a:cubicBezTo>
                  <a:cubicBezTo>
                    <a:pt x="340" y="573"/>
                    <a:pt x="347" y="554"/>
                    <a:pt x="364" y="540"/>
                  </a:cubicBezTo>
                  <a:cubicBezTo>
                    <a:pt x="416" y="498"/>
                    <a:pt x="466" y="450"/>
                    <a:pt x="528" y="425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2680" y="3276720"/>
              <a:ext cx="2330280" cy="954000"/>
            </a:xfrm>
            <a:custGeom>
              <a:avLst/>
              <a:gdLst/>
              <a:ahLst/>
              <a:rect l="l" t="t" r="r" b="b"/>
              <a:pathLst>
                <a:path w="1468" h="601">
                  <a:moveTo>
                    <a:pt x="1449" y="298"/>
                  </a:moveTo>
                  <a:cubicBezTo>
                    <a:pt x="1468" y="237"/>
                    <a:pt x="1463" y="166"/>
                    <a:pt x="1401" y="134"/>
                  </a:cubicBezTo>
                  <a:cubicBezTo>
                    <a:pt x="1366" y="116"/>
                    <a:pt x="1322" y="117"/>
                    <a:pt x="1285" y="106"/>
                  </a:cubicBezTo>
                  <a:cubicBezTo>
                    <a:pt x="1222" y="88"/>
                    <a:pt x="1158" y="79"/>
                    <a:pt x="1093" y="67"/>
                  </a:cubicBezTo>
                  <a:cubicBezTo>
                    <a:pt x="1006" y="51"/>
                    <a:pt x="920" y="22"/>
                    <a:pt x="834" y="0"/>
                  </a:cubicBezTo>
                  <a:cubicBezTo>
                    <a:pt x="649" y="7"/>
                    <a:pt x="492" y="21"/>
                    <a:pt x="316" y="58"/>
                  </a:cubicBezTo>
                  <a:cubicBezTo>
                    <a:pt x="248" y="102"/>
                    <a:pt x="172" y="129"/>
                    <a:pt x="105" y="173"/>
                  </a:cubicBezTo>
                  <a:cubicBezTo>
                    <a:pt x="97" y="178"/>
                    <a:pt x="93" y="187"/>
                    <a:pt x="85" y="192"/>
                  </a:cubicBezTo>
                  <a:cubicBezTo>
                    <a:pt x="70" y="203"/>
                    <a:pt x="53" y="211"/>
                    <a:pt x="37" y="221"/>
                  </a:cubicBezTo>
                  <a:cubicBezTo>
                    <a:pt x="30" y="244"/>
                    <a:pt x="11" y="264"/>
                    <a:pt x="9" y="288"/>
                  </a:cubicBezTo>
                  <a:cubicBezTo>
                    <a:pt x="0" y="383"/>
                    <a:pt x="67" y="412"/>
                    <a:pt x="143" y="432"/>
                  </a:cubicBezTo>
                  <a:cubicBezTo>
                    <a:pt x="212" y="474"/>
                    <a:pt x="273" y="491"/>
                    <a:pt x="354" y="499"/>
                  </a:cubicBezTo>
                  <a:cubicBezTo>
                    <a:pt x="453" y="523"/>
                    <a:pt x="405" y="514"/>
                    <a:pt x="498" y="528"/>
                  </a:cubicBezTo>
                  <a:cubicBezTo>
                    <a:pt x="683" y="601"/>
                    <a:pt x="1109" y="581"/>
                    <a:pt x="1285" y="586"/>
                  </a:cubicBezTo>
                  <a:cubicBezTo>
                    <a:pt x="1394" y="599"/>
                    <a:pt x="1336" y="595"/>
                    <a:pt x="1458" y="59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324480" y="911160"/>
            <a:ext cx="2362320" cy="3381480"/>
            <a:chOff x="6324480" y="911160"/>
            <a:chExt cx="2362320" cy="3381480"/>
          </a:xfrm>
        </p:grpSpPr>
        <p:sp>
          <p:nvSpPr>
            <p:cNvPr id="123" name=""/>
            <p:cNvSpPr/>
            <p:nvPr/>
          </p:nvSpPr>
          <p:spPr>
            <a:xfrm>
              <a:off x="7070760" y="911160"/>
              <a:ext cx="1403280" cy="781200"/>
            </a:xfrm>
            <a:custGeom>
              <a:avLst/>
              <a:gdLst/>
              <a:ahLst/>
              <a:rect l="l" t="t" r="r" b="b"/>
              <a:pathLst>
                <a:path w="884" h="492">
                  <a:moveTo>
                    <a:pt x="855" y="223"/>
                  </a:moveTo>
                  <a:cubicBezTo>
                    <a:pt x="840" y="163"/>
                    <a:pt x="854" y="192"/>
                    <a:pt x="797" y="136"/>
                  </a:cubicBezTo>
                  <a:cubicBezTo>
                    <a:pt x="756" y="95"/>
                    <a:pt x="715" y="47"/>
                    <a:pt x="653" y="40"/>
                  </a:cubicBezTo>
                  <a:cubicBezTo>
                    <a:pt x="612" y="35"/>
                    <a:pt x="570" y="34"/>
                    <a:pt x="528" y="31"/>
                  </a:cubicBezTo>
                  <a:cubicBezTo>
                    <a:pt x="378" y="0"/>
                    <a:pt x="205" y="9"/>
                    <a:pt x="58" y="60"/>
                  </a:cubicBezTo>
                  <a:cubicBezTo>
                    <a:pt x="47" y="77"/>
                    <a:pt x="29" y="90"/>
                    <a:pt x="20" y="108"/>
                  </a:cubicBezTo>
                  <a:cubicBezTo>
                    <a:pt x="10" y="129"/>
                    <a:pt x="8" y="153"/>
                    <a:pt x="0" y="175"/>
                  </a:cubicBezTo>
                  <a:cubicBezTo>
                    <a:pt x="2" y="185"/>
                    <a:pt x="10" y="261"/>
                    <a:pt x="20" y="280"/>
                  </a:cubicBezTo>
                  <a:cubicBezTo>
                    <a:pt x="66" y="372"/>
                    <a:pt x="181" y="426"/>
                    <a:pt x="279" y="444"/>
                  </a:cubicBezTo>
                  <a:cubicBezTo>
                    <a:pt x="318" y="451"/>
                    <a:pt x="355" y="463"/>
                    <a:pt x="394" y="472"/>
                  </a:cubicBezTo>
                  <a:cubicBezTo>
                    <a:pt x="426" y="479"/>
                    <a:pt x="490" y="492"/>
                    <a:pt x="490" y="492"/>
                  </a:cubicBezTo>
                  <a:cubicBezTo>
                    <a:pt x="593" y="483"/>
                    <a:pt x="679" y="460"/>
                    <a:pt x="778" y="434"/>
                  </a:cubicBezTo>
                  <a:cubicBezTo>
                    <a:pt x="853" y="385"/>
                    <a:pt x="884" y="368"/>
                    <a:pt x="884" y="271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6324480" y="3600360"/>
            <a:ext cx="2362320" cy="69228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6324480" y="3600360"/>
                      <a:ext cx="2362320" cy="692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6" name=""/>
          <p:cNvGrpSpPr/>
          <p:nvPr/>
        </p:nvGrpSpPr>
        <p:grpSpPr>
          <a:xfrm>
            <a:off x="8153280" y="1905120"/>
            <a:ext cx="990720" cy="2286000"/>
            <a:chOff x="8153280" y="1905120"/>
            <a:chExt cx="990720" cy="2286000"/>
          </a:xfrm>
        </p:grpSpPr>
        <p:sp>
          <p:nvSpPr>
            <p:cNvPr id="127" name=""/>
            <p:cNvSpPr/>
            <p:nvPr/>
          </p:nvSpPr>
          <p:spPr>
            <a:xfrm>
              <a:off x="8153280" y="19051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686800" y="3733920"/>
              <a:ext cx="457200" cy="457200"/>
            </a:xfrm>
            <a:prstGeom prst="leftArrowCallout">
              <a:avLst>
                <a:gd name="adj1" fmla="val 25002"/>
                <a:gd name="adj2" fmla="val 25000"/>
                <a:gd name="adj3" fmla="val 16667"/>
                <a:gd name="adj4" fmla="val 66673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9" name=""/>
            <p:cNvGraphicFramePr/>
            <p:nvPr/>
          </p:nvGraphicFramePr>
          <p:xfrm>
            <a:off x="8381880" y="2057400"/>
            <a:ext cx="152640" cy="22860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30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8381880" y="2057400"/>
                      <a:ext cx="152640" cy="22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"/>
            <p:cNvGraphicFramePr/>
            <p:nvPr/>
          </p:nvGraphicFramePr>
          <p:xfrm>
            <a:off x="8915400" y="3886200"/>
            <a:ext cx="139680" cy="1904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32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915400" y="3886200"/>
                      <a:ext cx="13968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3" name=""/>
          <p:cNvGrpSpPr/>
          <p:nvPr/>
        </p:nvGrpSpPr>
        <p:grpSpPr>
          <a:xfrm>
            <a:off x="3885480" y="4460760"/>
            <a:ext cx="4021200" cy="771480"/>
            <a:chOff x="3885480" y="4460760"/>
            <a:chExt cx="4021200" cy="771480"/>
          </a:xfrm>
        </p:grpSpPr>
        <p:sp>
          <p:nvSpPr>
            <p:cNvPr id="134" name=""/>
            <p:cNvSpPr/>
            <p:nvPr/>
          </p:nvSpPr>
          <p:spPr>
            <a:xfrm>
              <a:off x="3885480" y="44607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SOLVING THE EQUATIONS YIEL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4648320" y="4840200"/>
            <a:ext cx="3124080" cy="392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4648320" y="4840200"/>
                      <a:ext cx="3124080" cy="39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7" name=""/>
          <p:cNvSpPr/>
          <p:nvPr/>
        </p:nvSpPr>
        <p:spPr>
          <a:xfrm>
            <a:off x="1931040" y="5299200"/>
            <a:ext cx="717552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requires special, high accuracy re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mall resistance may imply large power dissip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may require large power rating to avoid he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7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90680" y="41400"/>
            <a:ext cx="566712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A CIRCUIT TO REALIZE THE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63680" y="380880"/>
          <a:ext cx="4746600" cy="3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3680" y="380880"/>
                    <a:ext cx="47466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580560" y="762120"/>
            <a:ext cx="402120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THE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m of voltage and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gains larger than 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inver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0" y="777960"/>
            <a:ext cx="3276720" cy="2333520"/>
            <a:chOff x="0" y="777960"/>
            <a:chExt cx="3276720" cy="2333520"/>
          </a:xfrm>
        </p:grpSpPr>
        <p:graphicFrame>
          <p:nvGraphicFramePr>
            <p:cNvPr id="147" name=""/>
            <p:cNvGraphicFramePr/>
            <p:nvPr/>
          </p:nvGraphicFramePr>
          <p:xfrm>
            <a:off x="0" y="777960"/>
            <a:ext cx="3276720" cy="1965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777960"/>
                      <a:ext cx="3276720" cy="196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" name=""/>
            <p:cNvSpPr/>
            <p:nvPr/>
          </p:nvSpPr>
          <p:spPr>
            <a:xfrm>
              <a:off x="466920" y="2743200"/>
              <a:ext cx="251244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Proposed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85800" y="1219320"/>
            <a:ext cx="6931800" cy="2324160"/>
            <a:chOff x="685800" y="1219320"/>
            <a:chExt cx="6931800" cy="2324160"/>
          </a:xfrm>
        </p:grpSpPr>
        <p:sp>
          <p:nvSpPr>
            <p:cNvPr id="151" name=""/>
            <p:cNvSpPr/>
            <p:nvPr/>
          </p:nvSpPr>
          <p:spPr>
            <a:xfrm>
              <a:off x="3596400" y="1946160"/>
              <a:ext cx="402120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NALYSIS OF PROPOSED CIRCU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3581280" y="2286000"/>
            <a:ext cx="2971800" cy="1257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81280" y="2286000"/>
                      <a:ext cx="2971800" cy="12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>
              <a:off x="1981080" y="1219320"/>
              <a:ext cx="6098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47920" y="1600200"/>
              <a:ext cx="0" cy="6858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685800" y="1600200"/>
              <a:ext cx="380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7" name=""/>
          <p:cNvGraphicFramePr/>
          <p:nvPr/>
        </p:nvGraphicFramePr>
        <p:xfrm>
          <a:off x="3657600" y="3581280"/>
          <a:ext cx="2590920" cy="919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3581280"/>
                    <a:ext cx="2590920" cy="9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6791040" y="2403360"/>
            <a:ext cx="2329200" cy="916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OTHER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uper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Norton </a:t>
            </a:r>
            <a:r>
              <a:rPr b="1" lang="en-US" sz="1200" spc="-1" strike="noStrike">
                <a:solidFill>
                  <a:srgbClr val="000000"/>
                </a:solidFill>
                <a:latin typeface="Lucida Console"/>
              </a:rPr>
              <a:t>(see bo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46840" y="5070600"/>
            <a:ext cx="3883680" cy="119124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ANALYSIS OF S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2k is standard re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667 is 1k||2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s standard componen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9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897280" y="684360"/>
            <a:ext cx="2970000" cy="687240"/>
            <a:chOff x="2897280" y="684360"/>
            <a:chExt cx="2970000" cy="687240"/>
          </a:xfrm>
        </p:grpSpPr>
        <p:sp>
          <p:nvSpPr>
            <p:cNvPr id="165" name=""/>
            <p:cNvSpPr/>
            <p:nvPr/>
          </p:nvSpPr>
          <p:spPr>
            <a:xfrm>
              <a:off x="2897280" y="684360"/>
              <a:ext cx="384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24280" y="762120"/>
              <a:ext cx="990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76920" y="1371600"/>
              <a:ext cx="990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581280" y="685800"/>
            <a:ext cx="3886200" cy="684360"/>
            <a:chOff x="3581280" y="685800"/>
            <a:chExt cx="3886200" cy="684360"/>
          </a:xfrm>
        </p:grpSpPr>
        <p:sp>
          <p:nvSpPr>
            <p:cNvPr id="169" name=""/>
            <p:cNvSpPr/>
            <p:nvPr/>
          </p:nvSpPr>
          <p:spPr>
            <a:xfrm>
              <a:off x="3581280" y="685800"/>
              <a:ext cx="6858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19920" y="762120"/>
              <a:ext cx="91440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626160" y="1370160"/>
              <a:ext cx="8413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348000" y="339840"/>
            <a:ext cx="3819600" cy="4663800"/>
            <a:chOff x="3348000" y="339840"/>
            <a:chExt cx="3819600" cy="4663800"/>
          </a:xfrm>
        </p:grpSpPr>
        <p:grpSp>
          <p:nvGrpSpPr>
            <p:cNvPr id="173" name=""/>
            <p:cNvGrpSpPr/>
            <p:nvPr/>
          </p:nvGrpSpPr>
          <p:grpSpPr>
            <a:xfrm>
              <a:off x="3348000" y="353880"/>
              <a:ext cx="2367000" cy="4649760"/>
              <a:chOff x="3348000" y="353880"/>
              <a:chExt cx="2367000" cy="4649760"/>
            </a:xfrm>
          </p:grpSpPr>
          <p:sp>
            <p:nvSpPr>
              <p:cNvPr id="174" name=""/>
              <p:cNvSpPr/>
              <p:nvPr/>
            </p:nvSpPr>
            <p:spPr>
              <a:xfrm>
                <a:off x="4295880" y="3627360"/>
                <a:ext cx="931680" cy="750960"/>
              </a:xfrm>
              <a:custGeom>
                <a:avLst/>
                <a:gdLst/>
                <a:ahLst/>
                <a:rect l="l" t="t" r="r" b="b"/>
                <a:pathLst>
                  <a:path w="587" h="473">
                    <a:moveTo>
                      <a:pt x="520" y="461"/>
                    </a:moveTo>
                    <a:cubicBezTo>
                      <a:pt x="560" y="400"/>
                      <a:pt x="572" y="339"/>
                      <a:pt x="587" y="269"/>
                    </a:cubicBezTo>
                    <a:cubicBezTo>
                      <a:pt x="578" y="230"/>
                      <a:pt x="578" y="187"/>
                      <a:pt x="558" y="153"/>
                    </a:cubicBezTo>
                    <a:cubicBezTo>
                      <a:pt x="505" y="62"/>
                      <a:pt x="437" y="23"/>
                      <a:pt x="337" y="0"/>
                    </a:cubicBezTo>
                    <a:cubicBezTo>
                      <a:pt x="285" y="10"/>
                      <a:pt x="236" y="21"/>
                      <a:pt x="184" y="29"/>
                    </a:cubicBezTo>
                    <a:cubicBezTo>
                      <a:pt x="126" y="47"/>
                      <a:pt x="82" y="72"/>
                      <a:pt x="40" y="115"/>
                    </a:cubicBezTo>
                    <a:cubicBezTo>
                      <a:pt x="0" y="232"/>
                      <a:pt x="53" y="345"/>
                      <a:pt x="164" y="384"/>
                    </a:cubicBezTo>
                    <a:cubicBezTo>
                      <a:pt x="219" y="436"/>
                      <a:pt x="314" y="443"/>
                      <a:pt x="385" y="451"/>
                    </a:cubicBezTo>
                    <a:cubicBezTo>
                      <a:pt x="447" y="473"/>
                      <a:pt x="404" y="461"/>
                      <a:pt x="520" y="461"/>
                    </a:cubicBezTo>
                    <a:close/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5" name=""/>
              <p:cNvGraphicFramePr/>
              <p:nvPr/>
            </p:nvGraphicFramePr>
            <p:xfrm>
              <a:off x="3733920" y="4572000"/>
              <a:ext cx="1981080" cy="431640"/>
            </p:xfrm>
            <a:graphic>
              <a:graphicData uri="http://schemas.openxmlformats.org/presentationml/2006/ole">
                <p:oleObj r:id="rId10" spid="">
                  <p:embed/>
                  <p:pic>
                    <p:nvPicPr>
                      <p:cNvPr id="176" name="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3733920" y="4572000"/>
                        <a:ext cx="1981080" cy="431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7" name=""/>
              <p:cNvSpPr/>
              <p:nvPr/>
            </p:nvSpPr>
            <p:spPr>
              <a:xfrm>
                <a:off x="3348000" y="353880"/>
                <a:ext cx="1152720" cy="487440"/>
              </a:xfrm>
              <a:custGeom>
                <a:avLst/>
                <a:gdLst/>
                <a:ahLst/>
                <a:rect l="l" t="t" r="r" b="b"/>
                <a:pathLst>
                  <a:path w="726" h="307">
                    <a:moveTo>
                      <a:pt x="678" y="260"/>
                    </a:moveTo>
                    <a:cubicBezTo>
                      <a:pt x="698" y="198"/>
                      <a:pt x="726" y="85"/>
                      <a:pt x="669" y="37"/>
                    </a:cubicBezTo>
                    <a:cubicBezTo>
                      <a:pt x="644" y="16"/>
                      <a:pt x="598" y="8"/>
                      <a:pt x="567" y="0"/>
                    </a:cubicBezTo>
                    <a:cubicBezTo>
                      <a:pt x="536" y="4"/>
                      <a:pt x="506" y="19"/>
                      <a:pt x="474" y="19"/>
                    </a:cubicBezTo>
                    <a:cubicBezTo>
                      <a:pt x="409" y="19"/>
                      <a:pt x="296" y="7"/>
                      <a:pt x="223" y="0"/>
                    </a:cubicBezTo>
                    <a:cubicBezTo>
                      <a:pt x="133" y="22"/>
                      <a:pt x="86" y="25"/>
                      <a:pt x="18" y="93"/>
                    </a:cubicBezTo>
                    <a:cubicBezTo>
                      <a:pt x="25" y="176"/>
                      <a:pt x="0" y="214"/>
                      <a:pt x="84" y="242"/>
                    </a:cubicBezTo>
                    <a:cubicBezTo>
                      <a:pt x="180" y="274"/>
                      <a:pt x="35" y="223"/>
                      <a:pt x="139" y="269"/>
                    </a:cubicBezTo>
                    <a:cubicBezTo>
                      <a:pt x="157" y="277"/>
                      <a:pt x="195" y="288"/>
                      <a:pt x="195" y="288"/>
                    </a:cubicBezTo>
                    <a:cubicBezTo>
                      <a:pt x="322" y="282"/>
                      <a:pt x="412" y="275"/>
                      <a:pt x="529" y="307"/>
                    </a:cubicBezTo>
                    <a:cubicBezTo>
                      <a:pt x="551" y="304"/>
                      <a:pt x="594" y="297"/>
                      <a:pt x="594" y="297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5827680" y="339840"/>
              <a:ext cx="1339920" cy="412560"/>
            </a:xfrm>
            <a:custGeom>
              <a:avLst/>
              <a:gdLst/>
              <a:ahLst/>
              <a:rect l="l" t="t" r="r" b="b"/>
              <a:pathLst>
                <a:path w="844" h="260">
                  <a:moveTo>
                    <a:pt x="844" y="260"/>
                  </a:moveTo>
                  <a:cubicBezTo>
                    <a:pt x="835" y="196"/>
                    <a:pt x="825" y="52"/>
                    <a:pt x="733" y="46"/>
                  </a:cubicBezTo>
                  <a:cubicBezTo>
                    <a:pt x="649" y="41"/>
                    <a:pt x="566" y="40"/>
                    <a:pt x="482" y="37"/>
                  </a:cubicBezTo>
                  <a:cubicBezTo>
                    <a:pt x="370" y="26"/>
                    <a:pt x="260" y="9"/>
                    <a:pt x="147" y="0"/>
                  </a:cubicBezTo>
                  <a:cubicBezTo>
                    <a:pt x="80" y="22"/>
                    <a:pt x="111" y="13"/>
                    <a:pt x="54" y="28"/>
                  </a:cubicBezTo>
                  <a:cubicBezTo>
                    <a:pt x="47" y="35"/>
                    <a:pt x="9" y="69"/>
                    <a:pt x="8" y="83"/>
                  </a:cubicBezTo>
                  <a:cubicBezTo>
                    <a:pt x="0" y="171"/>
                    <a:pt x="40" y="232"/>
                    <a:pt x="129" y="232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763720" y="255600"/>
            <a:ext cx="6303960" cy="4695840"/>
            <a:chOff x="2763720" y="255600"/>
            <a:chExt cx="6303960" cy="4695840"/>
          </a:xfrm>
        </p:grpSpPr>
        <p:grpSp>
          <p:nvGrpSpPr>
            <p:cNvPr id="180" name=""/>
            <p:cNvGrpSpPr/>
            <p:nvPr/>
          </p:nvGrpSpPr>
          <p:grpSpPr>
            <a:xfrm>
              <a:off x="4587840" y="255600"/>
              <a:ext cx="4479840" cy="4695840"/>
              <a:chOff x="4587840" y="255600"/>
              <a:chExt cx="4479840" cy="4695840"/>
            </a:xfrm>
          </p:grpSpPr>
          <p:sp>
            <p:nvSpPr>
              <p:cNvPr id="181" name=""/>
              <p:cNvSpPr/>
              <p:nvPr/>
            </p:nvSpPr>
            <p:spPr>
              <a:xfrm>
                <a:off x="5073480" y="3475080"/>
                <a:ext cx="1509840" cy="1143000"/>
              </a:xfrm>
              <a:custGeom>
                <a:avLst/>
                <a:gdLst/>
                <a:ahLst/>
                <a:rect l="l" t="t" r="r" b="b"/>
                <a:pathLst>
                  <a:path w="951" h="720">
                    <a:moveTo>
                      <a:pt x="759" y="720"/>
                    </a:moveTo>
                    <a:cubicBezTo>
                      <a:pt x="814" y="684"/>
                      <a:pt x="783" y="709"/>
                      <a:pt x="846" y="624"/>
                    </a:cubicBezTo>
                    <a:cubicBezTo>
                      <a:pt x="856" y="611"/>
                      <a:pt x="874" y="585"/>
                      <a:pt x="874" y="585"/>
                    </a:cubicBezTo>
                    <a:cubicBezTo>
                      <a:pt x="890" y="525"/>
                      <a:pt x="877" y="558"/>
                      <a:pt x="922" y="489"/>
                    </a:cubicBezTo>
                    <a:cubicBezTo>
                      <a:pt x="935" y="469"/>
                      <a:pt x="945" y="419"/>
                      <a:pt x="951" y="393"/>
                    </a:cubicBezTo>
                    <a:cubicBezTo>
                      <a:pt x="940" y="297"/>
                      <a:pt x="950" y="341"/>
                      <a:pt x="922" y="259"/>
                    </a:cubicBezTo>
                    <a:cubicBezTo>
                      <a:pt x="895" y="182"/>
                      <a:pt x="803" y="122"/>
                      <a:pt x="740" y="77"/>
                    </a:cubicBezTo>
                    <a:cubicBezTo>
                      <a:pt x="716" y="60"/>
                      <a:pt x="681" y="28"/>
                      <a:pt x="654" y="19"/>
                    </a:cubicBezTo>
                    <a:cubicBezTo>
                      <a:pt x="635" y="13"/>
                      <a:pt x="596" y="0"/>
                      <a:pt x="596" y="0"/>
                    </a:cubicBezTo>
                    <a:cubicBezTo>
                      <a:pt x="529" y="3"/>
                      <a:pt x="461" y="4"/>
                      <a:pt x="394" y="9"/>
                    </a:cubicBezTo>
                    <a:cubicBezTo>
                      <a:pt x="323" y="14"/>
                      <a:pt x="249" y="54"/>
                      <a:pt x="183" y="77"/>
                    </a:cubicBezTo>
                    <a:cubicBezTo>
                      <a:pt x="150" y="108"/>
                      <a:pt x="112" y="123"/>
                      <a:pt x="78" y="153"/>
                    </a:cubicBezTo>
                    <a:cubicBezTo>
                      <a:pt x="61" y="168"/>
                      <a:pt x="30" y="201"/>
                      <a:pt x="30" y="201"/>
                    </a:cubicBezTo>
                    <a:cubicBezTo>
                      <a:pt x="0" y="289"/>
                      <a:pt x="26" y="358"/>
                      <a:pt x="78" y="422"/>
                    </a:cubicBezTo>
                    <a:cubicBezTo>
                      <a:pt x="85" y="431"/>
                      <a:pt x="89" y="442"/>
                      <a:pt x="97" y="451"/>
                    </a:cubicBezTo>
                    <a:cubicBezTo>
                      <a:pt x="115" y="471"/>
                      <a:pt x="135" y="490"/>
                      <a:pt x="154" y="509"/>
                    </a:cubicBezTo>
                    <a:cubicBezTo>
                      <a:pt x="164" y="519"/>
                      <a:pt x="181" y="521"/>
                      <a:pt x="193" y="528"/>
                    </a:cubicBezTo>
                    <a:cubicBezTo>
                      <a:pt x="232" y="551"/>
                      <a:pt x="266" y="577"/>
                      <a:pt x="308" y="595"/>
                    </a:cubicBezTo>
                    <a:cubicBezTo>
                      <a:pt x="373" y="623"/>
                      <a:pt x="452" y="632"/>
                      <a:pt x="519" y="653"/>
                    </a:cubicBezTo>
                    <a:cubicBezTo>
                      <a:pt x="569" y="669"/>
                      <a:pt x="658" y="691"/>
                      <a:pt x="711" y="69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82" name=""/>
              <p:cNvGraphicFramePr/>
              <p:nvPr/>
            </p:nvGraphicFramePr>
            <p:xfrm>
              <a:off x="6095880" y="4572000"/>
              <a:ext cx="2971800" cy="379440"/>
            </p:xfrm>
            <a:graphic>
              <a:graphicData uri="http://schemas.openxmlformats.org/presentationml/2006/ole">
                <p:oleObj r:id="rId12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6095880" y="4572000"/>
                        <a:ext cx="2971800" cy="37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84" name=""/>
              <p:cNvSpPr/>
              <p:nvPr/>
            </p:nvSpPr>
            <p:spPr>
              <a:xfrm>
                <a:off x="4587840" y="255600"/>
                <a:ext cx="1306440" cy="557280"/>
              </a:xfrm>
              <a:custGeom>
                <a:avLst/>
                <a:gdLst/>
                <a:ahLst/>
                <a:rect l="l" t="t" r="r" b="b"/>
                <a:pathLst>
                  <a:path w="826" h="350">
                    <a:moveTo>
                      <a:pt x="20" y="350"/>
                    </a:moveTo>
                    <a:cubicBezTo>
                      <a:pt x="51" y="302"/>
                      <a:pt x="39" y="267"/>
                      <a:pt x="1" y="229"/>
                    </a:cubicBezTo>
                    <a:cubicBezTo>
                      <a:pt x="12" y="157"/>
                      <a:pt x="0" y="158"/>
                      <a:pt x="48" y="118"/>
                    </a:cubicBezTo>
                    <a:cubicBezTo>
                      <a:pt x="95" y="79"/>
                      <a:pt x="54" y="97"/>
                      <a:pt x="103" y="81"/>
                    </a:cubicBezTo>
                    <a:cubicBezTo>
                      <a:pt x="222" y="0"/>
                      <a:pt x="433" y="83"/>
                      <a:pt x="577" y="99"/>
                    </a:cubicBezTo>
                    <a:cubicBezTo>
                      <a:pt x="647" y="122"/>
                      <a:pt x="720" y="127"/>
                      <a:pt x="791" y="146"/>
                    </a:cubicBezTo>
                    <a:cubicBezTo>
                      <a:pt x="826" y="252"/>
                      <a:pt x="808" y="341"/>
                      <a:pt x="698" y="341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763720" y="338040"/>
              <a:ext cx="655920" cy="590760"/>
            </a:xfrm>
            <a:custGeom>
              <a:avLst/>
              <a:gdLst/>
              <a:ahLst/>
              <a:rect l="l" t="t" r="r" b="b"/>
              <a:pathLst>
                <a:path w="413" h="372">
                  <a:moveTo>
                    <a:pt x="117" y="335"/>
                  </a:moveTo>
                  <a:cubicBezTo>
                    <a:pt x="103" y="292"/>
                    <a:pt x="65" y="256"/>
                    <a:pt x="33" y="224"/>
                  </a:cubicBezTo>
                  <a:cubicBezTo>
                    <a:pt x="27" y="205"/>
                    <a:pt x="21" y="187"/>
                    <a:pt x="15" y="168"/>
                  </a:cubicBezTo>
                  <a:cubicBezTo>
                    <a:pt x="12" y="159"/>
                    <a:pt x="6" y="140"/>
                    <a:pt x="6" y="140"/>
                  </a:cubicBezTo>
                  <a:cubicBezTo>
                    <a:pt x="10" y="106"/>
                    <a:pt x="0" y="62"/>
                    <a:pt x="24" y="38"/>
                  </a:cubicBezTo>
                  <a:cubicBezTo>
                    <a:pt x="38" y="24"/>
                    <a:pt x="61" y="26"/>
                    <a:pt x="80" y="19"/>
                  </a:cubicBezTo>
                  <a:cubicBezTo>
                    <a:pt x="209" y="25"/>
                    <a:pt x="262" y="0"/>
                    <a:pt x="349" y="56"/>
                  </a:cubicBezTo>
                  <a:cubicBezTo>
                    <a:pt x="368" y="84"/>
                    <a:pt x="377" y="112"/>
                    <a:pt x="396" y="140"/>
                  </a:cubicBezTo>
                  <a:cubicBezTo>
                    <a:pt x="413" y="193"/>
                    <a:pt x="413" y="281"/>
                    <a:pt x="359" y="317"/>
                  </a:cubicBezTo>
                  <a:cubicBezTo>
                    <a:pt x="340" y="329"/>
                    <a:pt x="324" y="347"/>
                    <a:pt x="303" y="354"/>
                  </a:cubicBezTo>
                  <a:cubicBezTo>
                    <a:pt x="284" y="360"/>
                    <a:pt x="247" y="372"/>
                    <a:pt x="247" y="372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568680" y="1415880"/>
            <a:ext cx="3552840" cy="690840"/>
          </a:xfrm>
          <a:custGeom>
            <a:avLst/>
            <a:gdLst/>
            <a:ahLst/>
            <a:rect l="l" t="t" r="r" b="b"/>
            <a:pathLst>
              <a:path w="2238" h="435">
                <a:moveTo>
                  <a:pt x="102" y="0"/>
                </a:moveTo>
                <a:cubicBezTo>
                  <a:pt x="20" y="13"/>
                  <a:pt x="26" y="13"/>
                  <a:pt x="0" y="83"/>
                </a:cubicBezTo>
                <a:cubicBezTo>
                  <a:pt x="13" y="158"/>
                  <a:pt x="31" y="243"/>
                  <a:pt x="112" y="269"/>
                </a:cubicBezTo>
                <a:cubicBezTo>
                  <a:pt x="255" y="366"/>
                  <a:pt x="470" y="349"/>
                  <a:pt x="623" y="353"/>
                </a:cubicBezTo>
                <a:cubicBezTo>
                  <a:pt x="728" y="364"/>
                  <a:pt x="834" y="373"/>
                  <a:pt x="939" y="390"/>
                </a:cubicBezTo>
                <a:cubicBezTo>
                  <a:pt x="1074" y="435"/>
                  <a:pt x="970" y="404"/>
                  <a:pt x="1310" y="390"/>
                </a:cubicBezTo>
                <a:cubicBezTo>
                  <a:pt x="1497" y="382"/>
                  <a:pt x="1681" y="338"/>
                  <a:pt x="1868" y="325"/>
                </a:cubicBezTo>
                <a:cubicBezTo>
                  <a:pt x="1929" y="315"/>
                  <a:pt x="1983" y="296"/>
                  <a:pt x="2044" y="288"/>
                </a:cubicBezTo>
                <a:cubicBezTo>
                  <a:pt x="2089" y="265"/>
                  <a:pt x="2133" y="269"/>
                  <a:pt x="2174" y="241"/>
                </a:cubicBezTo>
                <a:cubicBezTo>
                  <a:pt x="2186" y="223"/>
                  <a:pt x="2199" y="204"/>
                  <a:pt x="2211" y="186"/>
                </a:cubicBezTo>
                <a:cubicBezTo>
                  <a:pt x="2238" y="146"/>
                  <a:pt x="2182" y="82"/>
                  <a:pt x="2165" y="56"/>
                </a:cubicBezTo>
                <a:cubicBezTo>
                  <a:pt x="2159" y="48"/>
                  <a:pt x="2146" y="51"/>
                  <a:pt x="2137" y="46"/>
                </a:cubicBezTo>
                <a:cubicBezTo>
                  <a:pt x="2068" y="7"/>
                  <a:pt x="2105" y="9"/>
                  <a:pt x="2072" y="9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0" y="380880"/>
          <a:ext cx="2971800" cy="15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2971800" cy="15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0" y="14400"/>
            <a:ext cx="2178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DESIGN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80680" y="41400"/>
            <a:ext cx="539280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USE A SERIES RESISTOR WITH EACH FAN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SENSE CUR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PROVIDE AN INDICATION OF TOTAL AI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320" y="1943280"/>
          <a:ext cx="1447560" cy="43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1943280"/>
                    <a:ext cx="1447560" cy="43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1523880" y="1924200"/>
          <a:ext cx="1676520" cy="42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924200"/>
                    <a:ext cx="167652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3200400" y="1371600"/>
            <a:ext cx="5846760" cy="91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VOLTAGE DROP ON SENSING RESISTOR CANNOT  EXCEED 2% OF NOMINAL 24V FAN VOL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1V = 50CFM FOR THE INDIC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7240" y="1031760"/>
            <a:ext cx="168948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ucida Console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5800" y="2479680"/>
            <a:ext cx="2375280" cy="2509920"/>
            <a:chOff x="145800" y="2479680"/>
            <a:chExt cx="2375280" cy="2509920"/>
          </a:xfrm>
        </p:grpSpPr>
        <p:graphicFrame>
          <p:nvGraphicFramePr>
            <p:cNvPr id="198" name=""/>
            <p:cNvGraphicFramePr/>
            <p:nvPr/>
          </p:nvGraphicFramePr>
          <p:xfrm>
            <a:off x="152280" y="2743200"/>
            <a:ext cx="2114640" cy="2246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52280" y="2743200"/>
                      <a:ext cx="2114640" cy="224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45800" y="2479680"/>
              <a:ext cx="237528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sen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6800" y="1946160"/>
            <a:ext cx="1757160" cy="1711440"/>
            <a:chOff x="766800" y="1946160"/>
            <a:chExt cx="1757160" cy="1711440"/>
          </a:xfrm>
        </p:grpSpPr>
        <p:sp>
          <p:nvSpPr>
            <p:cNvPr id="202" name=""/>
            <p:cNvSpPr/>
            <p:nvPr/>
          </p:nvSpPr>
          <p:spPr>
            <a:xfrm>
              <a:off x="1843200" y="3214800"/>
              <a:ext cx="680760" cy="442800"/>
            </a:xfrm>
            <a:custGeom>
              <a:avLst/>
              <a:gdLst/>
              <a:ahLst/>
              <a:rect l="l" t="t" r="r" b="b"/>
              <a:pathLst>
                <a:path w="429" h="279">
                  <a:moveTo>
                    <a:pt x="0" y="158"/>
                  </a:moveTo>
                  <a:cubicBezTo>
                    <a:pt x="3" y="180"/>
                    <a:pt x="4" y="202"/>
                    <a:pt x="10" y="223"/>
                  </a:cubicBezTo>
                  <a:cubicBezTo>
                    <a:pt x="26" y="277"/>
                    <a:pt x="130" y="275"/>
                    <a:pt x="168" y="279"/>
                  </a:cubicBezTo>
                  <a:cubicBezTo>
                    <a:pt x="243" y="269"/>
                    <a:pt x="230" y="273"/>
                    <a:pt x="307" y="251"/>
                  </a:cubicBezTo>
                  <a:cubicBezTo>
                    <a:pt x="326" y="246"/>
                    <a:pt x="363" y="233"/>
                    <a:pt x="363" y="233"/>
                  </a:cubicBezTo>
                  <a:cubicBezTo>
                    <a:pt x="429" y="187"/>
                    <a:pt x="409" y="80"/>
                    <a:pt x="344" y="37"/>
                  </a:cubicBezTo>
                  <a:cubicBezTo>
                    <a:pt x="319" y="21"/>
                    <a:pt x="280" y="8"/>
                    <a:pt x="251" y="0"/>
                  </a:cubicBezTo>
                  <a:cubicBezTo>
                    <a:pt x="174" y="10"/>
                    <a:pt x="97" y="19"/>
                    <a:pt x="19" y="19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66800" y="1946160"/>
              <a:ext cx="830160" cy="577800"/>
            </a:xfrm>
            <a:custGeom>
              <a:avLst/>
              <a:gdLst/>
              <a:ahLst/>
              <a:rect l="l" t="t" r="r" b="b"/>
              <a:pathLst>
                <a:path w="523" h="364">
                  <a:moveTo>
                    <a:pt x="0" y="195"/>
                  </a:moveTo>
                  <a:cubicBezTo>
                    <a:pt x="12" y="297"/>
                    <a:pt x="24" y="329"/>
                    <a:pt x="121" y="353"/>
                  </a:cubicBezTo>
                  <a:cubicBezTo>
                    <a:pt x="235" y="347"/>
                    <a:pt x="380" y="364"/>
                    <a:pt x="483" y="298"/>
                  </a:cubicBezTo>
                  <a:cubicBezTo>
                    <a:pt x="523" y="179"/>
                    <a:pt x="498" y="45"/>
                    <a:pt x="372" y="0"/>
                  </a:cubicBezTo>
                  <a:cubicBezTo>
                    <a:pt x="316" y="3"/>
                    <a:pt x="260" y="5"/>
                    <a:pt x="204" y="10"/>
                  </a:cubicBezTo>
                  <a:cubicBezTo>
                    <a:pt x="188" y="11"/>
                    <a:pt x="174" y="17"/>
                    <a:pt x="158" y="19"/>
                  </a:cubicBezTo>
                  <a:cubicBezTo>
                    <a:pt x="112" y="23"/>
                    <a:pt x="19" y="28"/>
                    <a:pt x="19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1843200" y="1636560"/>
            <a:ext cx="4911480" cy="3008520"/>
            <a:chOff x="1843200" y="1636560"/>
            <a:chExt cx="4911480" cy="3008520"/>
          </a:xfrm>
        </p:grpSpPr>
        <p:sp>
          <p:nvSpPr>
            <p:cNvPr id="205" name=""/>
            <p:cNvSpPr/>
            <p:nvPr/>
          </p:nvSpPr>
          <p:spPr>
            <a:xfrm>
              <a:off x="1843200" y="3938760"/>
              <a:ext cx="473040" cy="706320"/>
            </a:xfrm>
            <a:custGeom>
              <a:avLst/>
              <a:gdLst/>
              <a:ahLst/>
              <a:rect l="l" t="t" r="r" b="b"/>
              <a:pathLst>
                <a:path w="298" h="445">
                  <a:moveTo>
                    <a:pt x="0" y="0"/>
                  </a:moveTo>
                  <a:cubicBezTo>
                    <a:pt x="52" y="101"/>
                    <a:pt x="71" y="113"/>
                    <a:pt x="177" y="139"/>
                  </a:cubicBezTo>
                  <a:cubicBezTo>
                    <a:pt x="194" y="156"/>
                    <a:pt x="218" y="166"/>
                    <a:pt x="233" y="185"/>
                  </a:cubicBezTo>
                  <a:cubicBezTo>
                    <a:pt x="239" y="193"/>
                    <a:pt x="237" y="205"/>
                    <a:pt x="242" y="213"/>
                  </a:cubicBezTo>
                  <a:cubicBezTo>
                    <a:pt x="249" y="224"/>
                    <a:pt x="261" y="232"/>
                    <a:pt x="270" y="241"/>
                  </a:cubicBezTo>
                  <a:cubicBezTo>
                    <a:pt x="279" y="279"/>
                    <a:pt x="290" y="315"/>
                    <a:pt x="298" y="353"/>
                  </a:cubicBezTo>
                  <a:cubicBezTo>
                    <a:pt x="284" y="404"/>
                    <a:pt x="272" y="412"/>
                    <a:pt x="223" y="427"/>
                  </a:cubicBezTo>
                  <a:cubicBezTo>
                    <a:pt x="204" y="432"/>
                    <a:pt x="168" y="445"/>
                    <a:pt x="168" y="445"/>
                  </a:cubicBezTo>
                  <a:cubicBezTo>
                    <a:pt x="149" y="442"/>
                    <a:pt x="130" y="440"/>
                    <a:pt x="112" y="436"/>
                  </a:cubicBezTo>
                  <a:cubicBezTo>
                    <a:pt x="102" y="434"/>
                    <a:pt x="84" y="427"/>
                    <a:pt x="84" y="42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9080" y="1636560"/>
              <a:ext cx="2595600" cy="354240"/>
            </a:xfrm>
            <a:custGeom>
              <a:avLst/>
              <a:gdLst/>
              <a:ahLst/>
              <a:rect l="l" t="t" r="r" b="b"/>
              <a:pathLst>
                <a:path w="1635" h="223">
                  <a:moveTo>
                    <a:pt x="0" y="47"/>
                  </a:moveTo>
                  <a:cubicBezTo>
                    <a:pt x="10" y="77"/>
                    <a:pt x="27" y="163"/>
                    <a:pt x="56" y="186"/>
                  </a:cubicBezTo>
                  <a:cubicBezTo>
                    <a:pt x="81" y="206"/>
                    <a:pt x="118" y="200"/>
                    <a:pt x="149" y="205"/>
                  </a:cubicBezTo>
                  <a:cubicBezTo>
                    <a:pt x="313" y="191"/>
                    <a:pt x="476" y="215"/>
                    <a:pt x="641" y="223"/>
                  </a:cubicBezTo>
                  <a:cubicBezTo>
                    <a:pt x="930" y="214"/>
                    <a:pt x="1216" y="223"/>
                    <a:pt x="1505" y="214"/>
                  </a:cubicBezTo>
                  <a:cubicBezTo>
                    <a:pt x="1542" y="205"/>
                    <a:pt x="1566" y="197"/>
                    <a:pt x="1598" y="177"/>
                  </a:cubicBezTo>
                  <a:cubicBezTo>
                    <a:pt x="1609" y="143"/>
                    <a:pt x="1626" y="120"/>
                    <a:pt x="1635" y="84"/>
                  </a:cubicBezTo>
                  <a:cubicBezTo>
                    <a:pt x="1626" y="36"/>
                    <a:pt x="1635" y="17"/>
                    <a:pt x="1589" y="0"/>
                  </a:cubicBezTo>
                  <a:cubicBezTo>
                    <a:pt x="1539" y="9"/>
                    <a:pt x="1490" y="20"/>
                    <a:pt x="1440" y="28"/>
                  </a:cubicBezTo>
                  <a:cubicBezTo>
                    <a:pt x="1360" y="15"/>
                    <a:pt x="1287" y="34"/>
                    <a:pt x="1208" y="37"/>
                  </a:cubicBezTo>
                  <a:cubicBezTo>
                    <a:pt x="1078" y="42"/>
                    <a:pt x="947" y="44"/>
                    <a:pt x="817" y="47"/>
                  </a:cubicBezTo>
                  <a:cubicBezTo>
                    <a:pt x="763" y="40"/>
                    <a:pt x="705" y="28"/>
                    <a:pt x="650" y="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7" name=""/>
          <p:cNvGraphicFramePr/>
          <p:nvPr/>
        </p:nvGraphicFramePr>
        <p:xfrm>
          <a:off x="76320" y="4870440"/>
          <a:ext cx="2438280" cy="92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320" y="4870440"/>
                    <a:ext cx="2438280" cy="9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76320" y="5842080"/>
          <a:ext cx="1981080" cy="45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320" y="5842080"/>
                    <a:ext cx="198108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76320" y="6324480"/>
          <a:ext cx="2438280" cy="403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320" y="6324480"/>
                    <a:ext cx="24382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3124080" y="2403360"/>
            <a:ext cx="5410440" cy="2562480"/>
            <a:chOff x="3124080" y="2403360"/>
            <a:chExt cx="5410440" cy="2562480"/>
          </a:xfrm>
        </p:grpSpPr>
        <p:graphicFrame>
          <p:nvGraphicFramePr>
            <p:cNvPr id="214" name=""/>
            <p:cNvGraphicFramePr/>
            <p:nvPr/>
          </p:nvGraphicFramePr>
          <p:xfrm>
            <a:off x="3124080" y="2666880"/>
            <a:ext cx="5410440" cy="2298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3124080" y="2666880"/>
                      <a:ext cx="5410440" cy="229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576240" y="2403360"/>
              <a:ext cx="2786760" cy="3682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of Indic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7" name=""/>
          <p:cNvGraphicFramePr/>
          <p:nvPr/>
        </p:nvGraphicFramePr>
        <p:xfrm>
          <a:off x="7772400" y="4903920"/>
          <a:ext cx="762120" cy="328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772400" y="4903920"/>
                    <a:ext cx="762120" cy="32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9" name=""/>
          <p:cNvGrpSpPr/>
          <p:nvPr/>
        </p:nvGrpSpPr>
        <p:grpSpPr>
          <a:xfrm>
            <a:off x="1447920" y="1828800"/>
            <a:ext cx="5562360" cy="3555720"/>
            <a:chOff x="1447920" y="1828800"/>
            <a:chExt cx="5562360" cy="3555720"/>
          </a:xfrm>
        </p:grpSpPr>
        <p:graphicFrame>
          <p:nvGraphicFramePr>
            <p:cNvPr id="220" name=""/>
            <p:cNvGraphicFramePr/>
            <p:nvPr/>
          </p:nvGraphicFramePr>
          <p:xfrm>
            <a:off x="2682720" y="4876560"/>
            <a:ext cx="4327560" cy="507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2682720" y="4876560"/>
                      <a:ext cx="4327560" cy="50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447920" y="1828800"/>
              <a:ext cx="2133360" cy="554040"/>
            </a:xfrm>
            <a:custGeom>
              <a:avLst/>
              <a:gdLst/>
              <a:ahLst/>
              <a:rect l="l" t="t" r="r" b="b"/>
              <a:pathLst>
                <a:path w="1089" h="349">
                  <a:moveTo>
                    <a:pt x="212" y="49"/>
                  </a:moveTo>
                  <a:cubicBezTo>
                    <a:pt x="160" y="0"/>
                    <a:pt x="84" y="23"/>
                    <a:pt x="29" y="59"/>
                  </a:cubicBezTo>
                  <a:cubicBezTo>
                    <a:pt x="23" y="78"/>
                    <a:pt x="17" y="98"/>
                    <a:pt x="10" y="117"/>
                  </a:cubicBezTo>
                  <a:cubicBezTo>
                    <a:pt x="7" y="126"/>
                    <a:pt x="0" y="145"/>
                    <a:pt x="0" y="145"/>
                  </a:cubicBezTo>
                  <a:cubicBezTo>
                    <a:pt x="1" y="152"/>
                    <a:pt x="6" y="229"/>
                    <a:pt x="20" y="251"/>
                  </a:cubicBezTo>
                  <a:cubicBezTo>
                    <a:pt x="43" y="286"/>
                    <a:pt x="79" y="289"/>
                    <a:pt x="116" y="299"/>
                  </a:cubicBezTo>
                  <a:cubicBezTo>
                    <a:pt x="293" y="348"/>
                    <a:pt x="308" y="328"/>
                    <a:pt x="576" y="337"/>
                  </a:cubicBezTo>
                  <a:cubicBezTo>
                    <a:pt x="647" y="339"/>
                    <a:pt x="717" y="344"/>
                    <a:pt x="788" y="347"/>
                  </a:cubicBezTo>
                  <a:cubicBezTo>
                    <a:pt x="913" y="340"/>
                    <a:pt x="939" y="349"/>
                    <a:pt x="1028" y="318"/>
                  </a:cubicBezTo>
                  <a:cubicBezTo>
                    <a:pt x="1089" y="255"/>
                    <a:pt x="1081" y="165"/>
                    <a:pt x="1037" y="88"/>
                  </a:cubicBezTo>
                  <a:cubicBezTo>
                    <a:pt x="1022" y="62"/>
                    <a:pt x="1017" y="52"/>
                    <a:pt x="989" y="40"/>
                  </a:cubicBezTo>
                  <a:cubicBezTo>
                    <a:pt x="971" y="32"/>
                    <a:pt x="932" y="21"/>
                    <a:pt x="932" y="21"/>
                  </a:cubicBezTo>
                  <a:cubicBezTo>
                    <a:pt x="825" y="30"/>
                    <a:pt x="681" y="61"/>
                    <a:pt x="586" y="1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5746680" y="2743200"/>
            <a:ext cx="3092400" cy="2162160"/>
            <a:chOff x="5746680" y="2743200"/>
            <a:chExt cx="3092400" cy="2162160"/>
          </a:xfrm>
        </p:grpSpPr>
        <p:sp>
          <p:nvSpPr>
            <p:cNvPr id="224" name=""/>
            <p:cNvSpPr/>
            <p:nvPr/>
          </p:nvSpPr>
          <p:spPr>
            <a:xfrm>
              <a:off x="5746680" y="3139920"/>
              <a:ext cx="1538280" cy="1219320"/>
            </a:xfrm>
            <a:custGeom>
              <a:avLst/>
              <a:gdLst/>
              <a:ahLst/>
              <a:rect l="l" t="t" r="r" b="b"/>
              <a:pathLst>
                <a:path w="969" h="768">
                  <a:moveTo>
                    <a:pt x="834" y="748"/>
                  </a:moveTo>
                  <a:cubicBezTo>
                    <a:pt x="836" y="731"/>
                    <a:pt x="854" y="575"/>
                    <a:pt x="863" y="556"/>
                  </a:cubicBezTo>
                  <a:cubicBezTo>
                    <a:pt x="867" y="547"/>
                    <a:pt x="882" y="550"/>
                    <a:pt x="892" y="547"/>
                  </a:cubicBezTo>
                  <a:cubicBezTo>
                    <a:pt x="951" y="509"/>
                    <a:pt x="952" y="478"/>
                    <a:pt x="969" y="412"/>
                  </a:cubicBezTo>
                  <a:cubicBezTo>
                    <a:pt x="943" y="339"/>
                    <a:pt x="916" y="236"/>
                    <a:pt x="834" y="211"/>
                  </a:cubicBezTo>
                  <a:cubicBezTo>
                    <a:pt x="821" y="201"/>
                    <a:pt x="809" y="191"/>
                    <a:pt x="796" y="182"/>
                  </a:cubicBezTo>
                  <a:cubicBezTo>
                    <a:pt x="784" y="174"/>
                    <a:pt x="770" y="171"/>
                    <a:pt x="758" y="163"/>
                  </a:cubicBezTo>
                  <a:cubicBezTo>
                    <a:pt x="747" y="155"/>
                    <a:pt x="741" y="141"/>
                    <a:pt x="729" y="134"/>
                  </a:cubicBezTo>
                  <a:cubicBezTo>
                    <a:pt x="711" y="124"/>
                    <a:pt x="671" y="115"/>
                    <a:pt x="671" y="115"/>
                  </a:cubicBezTo>
                  <a:cubicBezTo>
                    <a:pt x="611" y="76"/>
                    <a:pt x="677" y="114"/>
                    <a:pt x="594" y="86"/>
                  </a:cubicBezTo>
                  <a:cubicBezTo>
                    <a:pt x="562" y="75"/>
                    <a:pt x="529" y="47"/>
                    <a:pt x="498" y="38"/>
                  </a:cubicBezTo>
                  <a:cubicBezTo>
                    <a:pt x="476" y="31"/>
                    <a:pt x="453" y="31"/>
                    <a:pt x="431" y="28"/>
                  </a:cubicBezTo>
                  <a:cubicBezTo>
                    <a:pt x="396" y="17"/>
                    <a:pt x="326" y="0"/>
                    <a:pt x="326" y="0"/>
                  </a:cubicBezTo>
                  <a:cubicBezTo>
                    <a:pt x="275" y="10"/>
                    <a:pt x="241" y="31"/>
                    <a:pt x="191" y="48"/>
                  </a:cubicBezTo>
                  <a:cubicBezTo>
                    <a:pt x="169" y="55"/>
                    <a:pt x="134" y="86"/>
                    <a:pt x="134" y="86"/>
                  </a:cubicBezTo>
                  <a:cubicBezTo>
                    <a:pt x="108" y="162"/>
                    <a:pt x="147" y="69"/>
                    <a:pt x="95" y="134"/>
                  </a:cubicBezTo>
                  <a:cubicBezTo>
                    <a:pt x="89" y="142"/>
                    <a:pt x="91" y="154"/>
                    <a:pt x="86" y="163"/>
                  </a:cubicBezTo>
                  <a:cubicBezTo>
                    <a:pt x="75" y="181"/>
                    <a:pt x="58" y="194"/>
                    <a:pt x="47" y="211"/>
                  </a:cubicBezTo>
                  <a:cubicBezTo>
                    <a:pt x="0" y="361"/>
                    <a:pt x="37" y="502"/>
                    <a:pt x="86" y="643"/>
                  </a:cubicBezTo>
                  <a:cubicBezTo>
                    <a:pt x="93" y="665"/>
                    <a:pt x="117" y="678"/>
                    <a:pt x="124" y="700"/>
                  </a:cubicBezTo>
                  <a:cubicBezTo>
                    <a:pt x="132" y="723"/>
                    <a:pt x="135" y="750"/>
                    <a:pt x="153" y="76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7147080" y="3260880"/>
              <a:ext cx="1692000" cy="1644480"/>
              <a:chOff x="7147080" y="3260880"/>
              <a:chExt cx="1692000" cy="1644480"/>
            </a:xfrm>
          </p:grpSpPr>
          <p:sp>
            <p:nvSpPr>
              <p:cNvPr id="226" name=""/>
              <p:cNvSpPr/>
              <p:nvPr/>
            </p:nvSpPr>
            <p:spPr>
              <a:xfrm>
                <a:off x="7457040" y="4537080"/>
                <a:ext cx="1278000" cy="3682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Lucida Console"/>
                  </a:rPr>
                  <a:t>Invert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147080" y="3260880"/>
                <a:ext cx="1692000" cy="1523880"/>
              </a:xfrm>
              <a:custGeom>
                <a:avLst/>
                <a:gdLst/>
                <a:ahLst/>
                <a:rect l="l" t="t" r="r" b="b"/>
                <a:pathLst>
                  <a:path w="1066" h="960">
                    <a:moveTo>
                      <a:pt x="221" y="912"/>
                    </a:moveTo>
                    <a:cubicBezTo>
                      <a:pt x="202" y="899"/>
                      <a:pt x="162" y="878"/>
                      <a:pt x="144" y="855"/>
                    </a:cubicBezTo>
                    <a:cubicBezTo>
                      <a:pt x="121" y="826"/>
                      <a:pt x="103" y="795"/>
                      <a:pt x="77" y="768"/>
                    </a:cubicBezTo>
                    <a:cubicBezTo>
                      <a:pt x="70" y="748"/>
                      <a:pt x="54" y="731"/>
                      <a:pt x="48" y="711"/>
                    </a:cubicBezTo>
                    <a:cubicBezTo>
                      <a:pt x="38" y="680"/>
                      <a:pt x="39" y="646"/>
                      <a:pt x="29" y="615"/>
                    </a:cubicBezTo>
                    <a:cubicBezTo>
                      <a:pt x="6" y="545"/>
                      <a:pt x="15" y="577"/>
                      <a:pt x="0" y="519"/>
                    </a:cubicBezTo>
                    <a:cubicBezTo>
                      <a:pt x="5" y="472"/>
                      <a:pt x="10" y="380"/>
                      <a:pt x="39" y="336"/>
                    </a:cubicBezTo>
                    <a:cubicBezTo>
                      <a:pt x="70" y="290"/>
                      <a:pt x="105" y="248"/>
                      <a:pt x="135" y="202"/>
                    </a:cubicBezTo>
                    <a:cubicBezTo>
                      <a:pt x="151" y="151"/>
                      <a:pt x="137" y="180"/>
                      <a:pt x="192" y="125"/>
                    </a:cubicBezTo>
                    <a:cubicBezTo>
                      <a:pt x="200" y="117"/>
                      <a:pt x="203" y="104"/>
                      <a:pt x="212" y="96"/>
                    </a:cubicBezTo>
                    <a:cubicBezTo>
                      <a:pt x="279" y="37"/>
                      <a:pt x="338" y="15"/>
                      <a:pt x="423" y="0"/>
                    </a:cubicBezTo>
                    <a:cubicBezTo>
                      <a:pt x="477" y="3"/>
                      <a:pt x="532" y="4"/>
                      <a:pt x="586" y="10"/>
                    </a:cubicBezTo>
                    <a:cubicBezTo>
                      <a:pt x="617" y="13"/>
                      <a:pt x="643" y="39"/>
                      <a:pt x="672" y="48"/>
                    </a:cubicBezTo>
                    <a:cubicBezTo>
                      <a:pt x="705" y="81"/>
                      <a:pt x="740" y="101"/>
                      <a:pt x="778" y="125"/>
                    </a:cubicBezTo>
                    <a:cubicBezTo>
                      <a:pt x="826" y="155"/>
                      <a:pt x="863" y="200"/>
                      <a:pt x="903" y="240"/>
                    </a:cubicBezTo>
                    <a:cubicBezTo>
                      <a:pt x="935" y="272"/>
                      <a:pt x="925" y="265"/>
                      <a:pt x="960" y="317"/>
                    </a:cubicBezTo>
                    <a:cubicBezTo>
                      <a:pt x="967" y="327"/>
                      <a:pt x="980" y="346"/>
                      <a:pt x="980" y="346"/>
                    </a:cubicBezTo>
                    <a:cubicBezTo>
                      <a:pt x="983" y="356"/>
                      <a:pt x="985" y="366"/>
                      <a:pt x="989" y="375"/>
                    </a:cubicBezTo>
                    <a:cubicBezTo>
                      <a:pt x="994" y="385"/>
                      <a:pt x="1004" y="393"/>
                      <a:pt x="1008" y="404"/>
                    </a:cubicBezTo>
                    <a:cubicBezTo>
                      <a:pt x="1063" y="550"/>
                      <a:pt x="974" y="364"/>
                      <a:pt x="1037" y="490"/>
                    </a:cubicBezTo>
                    <a:cubicBezTo>
                      <a:pt x="1045" y="529"/>
                      <a:pt x="1056" y="566"/>
                      <a:pt x="1066" y="605"/>
                    </a:cubicBezTo>
                    <a:cubicBezTo>
                      <a:pt x="1063" y="695"/>
                      <a:pt x="1064" y="785"/>
                      <a:pt x="1056" y="874"/>
                    </a:cubicBezTo>
                    <a:cubicBezTo>
                      <a:pt x="1052" y="916"/>
                      <a:pt x="1043" y="936"/>
                      <a:pt x="1008" y="951"/>
                    </a:cubicBezTo>
                    <a:cubicBezTo>
                      <a:pt x="996" y="956"/>
                      <a:pt x="970" y="960"/>
                      <a:pt x="970" y="960"/>
                    </a:cubicBezTo>
                  </a:path>
                </a:pathLst>
              </a:custGeom>
              <a:noFill/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6101280" y="2743200"/>
              <a:ext cx="1278000" cy="642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inver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438280" y="3886200"/>
            <a:ext cx="6705720" cy="2158920"/>
            <a:chOff x="2438280" y="3886200"/>
            <a:chExt cx="6705720" cy="2158920"/>
          </a:xfrm>
        </p:grpSpPr>
        <p:sp>
          <p:nvSpPr>
            <p:cNvPr id="230" name=""/>
            <p:cNvSpPr/>
            <p:nvPr/>
          </p:nvSpPr>
          <p:spPr>
            <a:xfrm>
              <a:off x="8229600" y="3886200"/>
              <a:ext cx="380880" cy="7621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1" name=""/>
            <p:cNvGraphicFramePr/>
            <p:nvPr/>
          </p:nvGraphicFramePr>
          <p:xfrm>
            <a:off x="2438280" y="5424480"/>
            <a:ext cx="6705720" cy="6206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438280" y="5424480"/>
                      <a:ext cx="6705720" cy="62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33" name=""/>
          <p:cNvGraphicFramePr/>
          <p:nvPr/>
        </p:nvGraphicFramePr>
        <p:xfrm>
          <a:off x="2666880" y="6095880"/>
          <a:ext cx="1143000" cy="55908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2666880" y="6095880"/>
                    <a:ext cx="114300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5" name=""/>
          <p:cNvGrpSpPr/>
          <p:nvPr/>
        </p:nvGrpSpPr>
        <p:grpSpPr>
          <a:xfrm>
            <a:off x="2590920" y="4876920"/>
            <a:ext cx="6172200" cy="1752480"/>
            <a:chOff x="2590920" y="4876920"/>
            <a:chExt cx="6172200" cy="1752480"/>
          </a:xfrm>
        </p:grpSpPr>
        <p:sp>
          <p:nvSpPr>
            <p:cNvPr id="236" name=""/>
            <p:cNvSpPr/>
            <p:nvPr/>
          </p:nvSpPr>
          <p:spPr>
            <a:xfrm>
              <a:off x="2590920" y="6019920"/>
              <a:ext cx="1295280" cy="6094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20120" y="4876920"/>
              <a:ext cx="1143000" cy="4572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72240" y="6060960"/>
              <a:ext cx="251244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Lucida Console"/>
                </a:rPr>
                <a:t>DESIGN EQUATIONS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2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746280" y="228600"/>
          <a:ext cx="7651440" cy="541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228600"/>
                    <a:ext cx="7651440" cy="54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34560" y="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560" y="58680"/>
            <a:ext cx="3134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 OVERLOAD SE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029200" y="380880"/>
            <a:ext cx="2055960" cy="341280"/>
            <a:chOff x="5029200" y="380880"/>
            <a:chExt cx="2055960" cy="341280"/>
          </a:xfrm>
        </p:grpSpPr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6781680" y="380880"/>
                  <a:ext cx="30348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−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8" name=""/>
                <p:cNvSpPr txBox="1"/>
                <p:nvPr/>
              </p:nvSpPr>
              <p:spPr>
                <a:xfrm>
                  <a:off x="5029200" y="380880"/>
                  <a:ext cx="303120" cy="341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9" name=""/>
          <p:cNvGrpSpPr/>
          <p:nvPr/>
        </p:nvGrpSpPr>
        <p:grpSpPr>
          <a:xfrm>
            <a:off x="228600" y="3429000"/>
            <a:ext cx="3211560" cy="711360"/>
            <a:chOff x="228600" y="3429000"/>
            <a:chExt cx="3211560" cy="711360"/>
          </a:xfrm>
        </p:grpSpPr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200400" y="3429000"/>
                  <a:ext cx="2397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51" name=""/>
                <p:cNvSpPr txBox="1"/>
                <p:nvPr/>
              </p:nvSpPr>
              <p:spPr>
                <a:xfrm>
                  <a:off x="228600" y="3581280"/>
                  <a:ext cx="1015920" cy="55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−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50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51</m:t>
                          </m:r>
                        </m:den>
                      </m:f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S</m:t>
                          </m:r>
                        </m:sub>
                        <m:sup>
                          <m:r>
                            <m:t xml:space="preserve">+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200400" y="2590920"/>
                <a:ext cx="67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35080" y="4191120"/>
                <a:ext cx="20066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@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 </m:t>
                        </m:r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5680" y="5715000"/>
                <a:ext cx="26035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4572000" y="3429000"/>
                <a:ext cx="45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80880" y="6095880"/>
                <a:ext cx="247680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tt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9</m:t>
                        </m:r>
                        <m:r>
                          <m:t xml:space="preserve">A</m:t>
                        </m: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6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048120" y="5791320"/>
                <a:ext cx="3962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en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3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3809880"/>
            <a:ext cx="2590920" cy="82404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IS POINT MUST GO HIGH WHEN CURRENT EXCEEDS 9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228600" y="2529000"/>
                <a:ext cx="102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att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52280" y="609480"/>
          <a:ext cx="2971800" cy="24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2971800" cy="24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52280" y="3060720"/>
                <a:ext cx="3429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REQUIREMENT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PUT                    OUTOUT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5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304920" y="4114800"/>
                <a:ext cx="2361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ERMINE 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19320" y="1219320"/>
                <a:ext cx="279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04920" y="4495680"/>
                <a:ext cx="215892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CL @ 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ef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04920" y="5486400"/>
                <a:ext cx="238752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3276720" y="0"/>
                <a:ext cx="243828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SIGN  EQUATIONS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  <m:e>
                        <m:r>
                          <m:t xml:space="preserve">5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715000" y="380880"/>
                <a:ext cx="121932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m>
                      <m:m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9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ref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  <m:r>
                            <m:t xml:space="preserve">V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3456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5715000" y="152388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HOOS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k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74" name=""/>
          <p:cNvGraphicFramePr/>
          <p:nvPr/>
        </p:nvGraphicFramePr>
        <p:xfrm>
          <a:off x="3657600" y="1905120"/>
          <a:ext cx="5105520" cy="24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905120"/>
                    <a:ext cx="510552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4687920" y="1905120"/>
            <a:ext cx="3911040" cy="2655720"/>
            <a:chOff x="4687920" y="1905120"/>
            <a:chExt cx="3911040" cy="2655720"/>
          </a:xfrm>
        </p:grpSpPr>
        <p:sp>
          <p:nvSpPr>
            <p:cNvPr id="277" name=""/>
            <p:cNvSpPr/>
            <p:nvPr/>
          </p:nvSpPr>
          <p:spPr>
            <a:xfrm>
              <a:off x="4687920" y="1905120"/>
              <a:ext cx="2082600" cy="2281320"/>
            </a:xfrm>
            <a:custGeom>
              <a:avLst/>
              <a:gdLst/>
              <a:ahLst/>
              <a:rect l="l" t="t" r="r" b="b"/>
              <a:pathLst>
                <a:path w="1312" h="1437">
                  <a:moveTo>
                    <a:pt x="1294" y="350"/>
                  </a:moveTo>
                  <a:cubicBezTo>
                    <a:pt x="1287" y="222"/>
                    <a:pt x="1312" y="203"/>
                    <a:pt x="1208" y="155"/>
                  </a:cubicBezTo>
                  <a:cubicBezTo>
                    <a:pt x="1193" y="148"/>
                    <a:pt x="1177" y="145"/>
                    <a:pt x="1161" y="140"/>
                  </a:cubicBezTo>
                  <a:cubicBezTo>
                    <a:pt x="1116" y="108"/>
                    <a:pt x="1065" y="100"/>
                    <a:pt x="1013" y="85"/>
                  </a:cubicBezTo>
                  <a:cubicBezTo>
                    <a:pt x="852" y="39"/>
                    <a:pt x="697" y="17"/>
                    <a:pt x="530" y="0"/>
                  </a:cubicBezTo>
                  <a:cubicBezTo>
                    <a:pt x="392" y="15"/>
                    <a:pt x="253" y="18"/>
                    <a:pt x="117" y="46"/>
                  </a:cubicBezTo>
                  <a:cubicBezTo>
                    <a:pt x="88" y="52"/>
                    <a:pt x="75" y="92"/>
                    <a:pt x="47" y="101"/>
                  </a:cubicBezTo>
                  <a:cubicBezTo>
                    <a:pt x="29" y="159"/>
                    <a:pt x="28" y="218"/>
                    <a:pt x="0" y="272"/>
                  </a:cubicBezTo>
                  <a:cubicBezTo>
                    <a:pt x="3" y="459"/>
                    <a:pt x="3" y="646"/>
                    <a:pt x="8" y="833"/>
                  </a:cubicBezTo>
                  <a:cubicBezTo>
                    <a:pt x="9" y="865"/>
                    <a:pt x="21" y="969"/>
                    <a:pt x="24" y="1005"/>
                  </a:cubicBezTo>
                  <a:cubicBezTo>
                    <a:pt x="37" y="1147"/>
                    <a:pt x="27" y="1340"/>
                    <a:pt x="203" y="1379"/>
                  </a:cubicBezTo>
                  <a:cubicBezTo>
                    <a:pt x="222" y="1383"/>
                    <a:pt x="330" y="1394"/>
                    <a:pt x="343" y="1395"/>
                  </a:cubicBezTo>
                  <a:cubicBezTo>
                    <a:pt x="385" y="1399"/>
                    <a:pt x="426" y="1408"/>
                    <a:pt x="468" y="1410"/>
                  </a:cubicBezTo>
                  <a:cubicBezTo>
                    <a:pt x="543" y="1414"/>
                    <a:pt x="619" y="1415"/>
                    <a:pt x="694" y="1418"/>
                  </a:cubicBezTo>
                  <a:cubicBezTo>
                    <a:pt x="937" y="1406"/>
                    <a:pt x="977" y="1437"/>
                    <a:pt x="1138" y="1356"/>
                  </a:cubicBezTo>
                  <a:cubicBezTo>
                    <a:pt x="1192" y="1275"/>
                    <a:pt x="1192" y="1176"/>
                    <a:pt x="1208" y="1083"/>
                  </a:cubicBezTo>
                  <a:cubicBezTo>
                    <a:pt x="1205" y="1036"/>
                    <a:pt x="1204" y="990"/>
                    <a:pt x="1200" y="943"/>
                  </a:cubicBezTo>
                  <a:cubicBezTo>
                    <a:pt x="1193" y="864"/>
                    <a:pt x="1146" y="783"/>
                    <a:pt x="1123" y="709"/>
                  </a:cubicBezTo>
                  <a:cubicBezTo>
                    <a:pt x="1114" y="637"/>
                    <a:pt x="1082" y="556"/>
                    <a:pt x="1169" y="530"/>
                  </a:cubicBezTo>
                  <a:cubicBezTo>
                    <a:pt x="1218" y="497"/>
                    <a:pt x="1220" y="455"/>
                    <a:pt x="1247" y="405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283360" y="3980160"/>
              <a:ext cx="3315600" cy="58068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GENERATES Vref AND ISOLA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 DIVI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5"/>
          <a:stretch/>
        </p:blipFill>
        <p:spPr>
          <a:xfrm>
            <a:off x="8610480" y="6324480"/>
            <a:ext cx="514440" cy="5144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3124080" y="4572000"/>
            <a:ext cx="5394600" cy="2166120"/>
            <a:chOff x="3124080" y="4572000"/>
            <a:chExt cx="5394600" cy="2166120"/>
          </a:xfrm>
        </p:grpSpPr>
        <p:graphicFrame>
          <p:nvGraphicFramePr>
            <p:cNvPr id="282" name=""/>
            <p:cNvGraphicFramePr/>
            <p:nvPr/>
          </p:nvGraphicFramePr>
          <p:xfrm>
            <a:off x="3124080" y="4572000"/>
            <a:ext cx="5105520" cy="19558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8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124080" y="4572000"/>
                      <a:ext cx="5105520" cy="195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"/>
            <p:cNvSpPr/>
            <p:nvPr/>
          </p:nvSpPr>
          <p:spPr>
            <a:xfrm>
              <a:off x="4584240" y="6400800"/>
              <a:ext cx="3934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ing circuit using superpo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20:58:31Z</dcterms:created>
  <dc:creator>Jorge Aravena</dc:creator>
  <dc:description/>
  <dc:language>en-US</dc:language>
  <cp:lastModifiedBy>Jorge Aravena</cp:lastModifiedBy>
  <dcterms:modified xsi:type="dcterms:W3CDTF">2004-08-18T13:54:55Z</dcterms:modified>
  <cp:revision>5</cp:revision>
  <dc:subject/>
  <dc:title>No Slide Title</dc:title>
</cp:coreProperties>
</file>